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36576000" cy="27432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176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F569945-043E-4008-993D-16FCDD2E5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ultiple choice              8/10 contro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 multiple true/false          10/14 contr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free respon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The control questions are uniform across each exam ver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ECBC534-4AAC-4DEB-86B6-B1ED27A5DE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58C7-30AB-42F3-85D7-200BF018E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8800" y="6400800"/>
            <a:ext cx="3291840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8800" y="15856920"/>
            <a:ext cx="3291840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4570-24F7-4DA9-881C-B3F927BFF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8800" y="640080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6240" y="640080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8800" y="1585692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6240" y="1585692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21A0-8611-4151-AB58-35510257A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8800" y="6400800"/>
            <a:ext cx="1059948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8560" y="6400800"/>
            <a:ext cx="1059948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88320" y="6400800"/>
            <a:ext cx="1059948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8800" y="15856920"/>
            <a:ext cx="1059948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8560" y="15856920"/>
            <a:ext cx="1059948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88320" y="15856920"/>
            <a:ext cx="1059948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4396-C24A-472A-919D-52929926D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828800" y="6400800"/>
            <a:ext cx="32918400" cy="181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828800" y="6400800"/>
            <a:ext cx="32918400" cy="181036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28800" y="6400800"/>
            <a:ext cx="16063920" cy="181036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18696240" y="6400800"/>
            <a:ext cx="16063920" cy="181036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828800" y="1098720"/>
            <a:ext cx="32918400" cy="211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828800" y="640080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8696240" y="6400800"/>
            <a:ext cx="16063920" cy="181036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828800" y="1585692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8800" y="6400800"/>
            <a:ext cx="32918400" cy="181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08F4-5234-4A15-A831-1DF9C76D6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828800" y="6400800"/>
            <a:ext cx="16063920" cy="181036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18696240" y="640080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8696240" y="1585692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828800" y="640080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8696240" y="640080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828800" y="15856920"/>
            <a:ext cx="3291840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28800" y="6400800"/>
            <a:ext cx="3291840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828800" y="15856920"/>
            <a:ext cx="3291840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828800" y="640080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8696240" y="640080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828800" y="1585692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18696240" y="1585692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828800" y="6400800"/>
            <a:ext cx="1059948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2958560" y="6400800"/>
            <a:ext cx="1059948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4088320" y="6400800"/>
            <a:ext cx="1059948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828800" y="15856920"/>
            <a:ext cx="1059948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12958560" y="15856920"/>
            <a:ext cx="1059948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24088320" y="15856920"/>
            <a:ext cx="1059948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8800" y="6400800"/>
            <a:ext cx="32918400" cy="181036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2D2F-5142-4CCD-95C3-3AE01D426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8800" y="6400800"/>
            <a:ext cx="16063920" cy="181036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6240" y="6400800"/>
            <a:ext cx="16063920" cy="181036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95D7-9562-47DC-8F5E-7BBF29944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DB60-8D0D-4DAE-A35C-8956A5A49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800" y="1098720"/>
            <a:ext cx="32918400" cy="211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8820-E099-4887-AD9F-FFA49D571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8800" y="640080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6240" y="6400800"/>
            <a:ext cx="16063920" cy="181036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8800" y="1585692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D8FF-9E36-4F40-B2C6-377DBDDD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8800" y="6400800"/>
            <a:ext cx="16063920" cy="181036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6240" y="640080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6240" y="1585692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18F0-86E2-410A-98FE-1A61FA4A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8800" y="640080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6240" y="640080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8800" y="15856920"/>
            <a:ext cx="3291840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7BA7-8E6C-460C-9E0F-D83B9C83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17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8800" y="6400800"/>
            <a:ext cx="32918400" cy="181036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marL="1371600" indent="-1371600">
              <a:spcBef>
                <a:spcPts val="32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  <a:p>
            <a:pPr lvl="1" marL="2971800" indent="-1143000">
              <a:spcBef>
                <a:spcPts val="32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  <a:p>
            <a:pPr lvl="2" marL="4572000" indent="-914400">
              <a:spcBef>
                <a:spcPts val="32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  <a:p>
            <a:pPr lvl="3" marL="6400800" indent="-914400">
              <a:spcBef>
                <a:spcPts val="32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  <a:p>
            <a:pPr lvl="4" marL="8229600" indent="-914400">
              <a:spcBef>
                <a:spcPts val="3200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  <a:p>
            <a:pPr lvl="5" marL="8229600" indent="-914400">
              <a:spcBef>
                <a:spcPts val="3200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  <a:p>
            <a:pPr lvl="6" marL="8229600" indent="-914400">
              <a:spcBef>
                <a:spcPts val="3200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8440" y="25425000"/>
            <a:ext cx="8534520" cy="14605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lstStyle>
            <a:lvl1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en-US" sz="4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8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6680" y="25425000"/>
            <a:ext cx="11582640" cy="14605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12320" y="25425000"/>
            <a:ext cx="8534520" cy="14605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lstStyle>
            <a:lvl1pPr indent="0" algn="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en-US" sz="4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85453E3-5E34-4A9B-A511-CB116C199EFF}" type="slidenum">
              <a:rPr b="0" lang="en-US" sz="4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36576000" cy="27432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17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828800" y="6400800"/>
            <a:ext cx="32918400" cy="181036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marL="1371600" indent="-1371600">
              <a:spcBef>
                <a:spcPts val="32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  <a:p>
            <a:pPr lvl="1" marL="2971800" indent="-1143000">
              <a:spcBef>
                <a:spcPts val="32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  <a:p>
            <a:pPr lvl="2" marL="4572000" indent="-914400">
              <a:spcBef>
                <a:spcPts val="32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  <a:p>
            <a:pPr lvl="3" marL="6400800" indent="-914400">
              <a:spcBef>
                <a:spcPts val="32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  <a:p>
            <a:pPr lvl="4" marL="8229600" indent="-914400">
              <a:spcBef>
                <a:spcPts val="3200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  <a:p>
            <a:pPr lvl="5" marL="8229600" indent="-914400">
              <a:spcBef>
                <a:spcPts val="3200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  <a:p>
            <a:pPr lvl="6" marL="8229600" indent="-914400">
              <a:spcBef>
                <a:spcPts val="3200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13.xml"/><Relationship Id="rId1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4"/>
          <p:cNvSpPr/>
          <p:nvPr/>
        </p:nvSpPr>
        <p:spPr>
          <a:xfrm>
            <a:off x="4146480" y="-109080"/>
            <a:ext cx="32429520" cy="24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Assessing Student Comprehension in Introductory Biology: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7500" spc="-1" strike="noStrike">
                <a:solidFill>
                  <a:srgbClr val="ffffff"/>
                </a:solidFill>
                <a:latin typeface="Arial"/>
                <a:ea typeface="Arial"/>
              </a:rPr>
              <a:t>A Comparison of Free-Response and Multiple-True/False Exam Formats</a:t>
            </a: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4483080" y="2425680"/>
            <a:ext cx="32429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Macy Potts</a:t>
            </a:r>
            <a:r>
              <a:rPr b="1" lang="en-US" sz="5000" spc="-1" strike="noStrike">
                <a:solidFill>
                  <a:srgbClr val="ffffff"/>
                </a:solidFill>
                <a:latin typeface="Arial"/>
                <a:ea typeface="Arial"/>
              </a:rPr>
              <a:t> |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Joanna Hubbard, PhD</a:t>
            </a:r>
            <a:r>
              <a:rPr b="1" lang="en-US" sz="5000" spc="-1" strike="noStrike">
                <a:solidFill>
                  <a:srgbClr val="ffffff"/>
                </a:solidFill>
                <a:latin typeface="Arial"/>
                <a:ea typeface="Arial"/>
              </a:rPr>
              <a:t> |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Brian Couch, PhD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Group 3"/>
          <p:cNvGrpSpPr/>
          <p:nvPr/>
        </p:nvGrpSpPr>
        <p:grpSpPr>
          <a:xfrm>
            <a:off x="27312840" y="19705680"/>
            <a:ext cx="8647200" cy="1224000"/>
            <a:chOff x="27312840" y="19705680"/>
            <a:chExt cx="8647200" cy="1224000"/>
          </a:xfrm>
        </p:grpSpPr>
        <p:sp>
          <p:nvSpPr>
            <p:cNvPr id="90" name="Rounded Rectangle 4"/>
            <p:cNvSpPr/>
            <p:nvPr/>
          </p:nvSpPr>
          <p:spPr>
            <a:xfrm>
              <a:off x="27611280" y="19761120"/>
              <a:ext cx="8348760" cy="1168560"/>
            </a:xfrm>
            <a:prstGeom prst="roundRect">
              <a:avLst>
                <a:gd name="adj" fmla="val 16667"/>
              </a:avLst>
            </a:prstGeom>
            <a:solidFill>
              <a:srgbClr val="ba0d27"/>
            </a:soli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193840"/>
                  <a:tab algn="l" pos="4387680"/>
                  <a:tab algn="l" pos="6581880"/>
                  <a:tab algn="l" pos="8775720"/>
                  <a:tab algn="l" pos="1096956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CKNOWLEDGEMENT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TextBox 16"/>
            <p:cNvSpPr/>
            <p:nvPr/>
          </p:nvSpPr>
          <p:spPr>
            <a:xfrm>
              <a:off x="27312840" y="19705680"/>
              <a:ext cx="7832520" cy="84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endParaRPr b="0" lang="en-US" sz="7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" name="Rounded Rectangle 8"/>
          <p:cNvSpPr/>
          <p:nvPr/>
        </p:nvSpPr>
        <p:spPr>
          <a:xfrm>
            <a:off x="5789520" y="13511160"/>
            <a:ext cx="21301200" cy="1022400"/>
          </a:xfrm>
          <a:prstGeom prst="roundRect">
            <a:avLst>
              <a:gd name="adj" fmla="val 16667"/>
            </a:avLst>
          </a:prstGeom>
          <a:solidFill>
            <a:srgbClr val="ba0d27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193840"/>
                <a:tab algn="l" pos="4387680"/>
                <a:tab algn="l" pos="6581880"/>
                <a:tab algn="l" pos="8775720"/>
                <a:tab algn="l" pos="109695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" name="Group 11"/>
          <p:cNvGrpSpPr/>
          <p:nvPr/>
        </p:nvGrpSpPr>
        <p:grpSpPr>
          <a:xfrm>
            <a:off x="-2516040" y="4073400"/>
            <a:ext cx="29238480" cy="12516120"/>
            <a:chOff x="-2516040" y="4073400"/>
            <a:chExt cx="29238480" cy="12516120"/>
          </a:xfrm>
        </p:grpSpPr>
        <p:sp>
          <p:nvSpPr>
            <p:cNvPr id="94" name="Rounded Rectangle 12"/>
            <p:cNvSpPr/>
            <p:nvPr/>
          </p:nvSpPr>
          <p:spPr>
            <a:xfrm>
              <a:off x="6159600" y="4073400"/>
              <a:ext cx="20562840" cy="1006200"/>
            </a:xfrm>
            <a:prstGeom prst="roundRect">
              <a:avLst>
                <a:gd name="adj" fmla="val 16667"/>
              </a:avLst>
            </a:prstGeom>
            <a:solidFill>
              <a:srgbClr val="ba0d27"/>
            </a:soli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193840"/>
                  <a:tab algn="l" pos="4387680"/>
                  <a:tab algn="l" pos="6581880"/>
                  <a:tab algn="l" pos="8775720"/>
                  <a:tab algn="l" pos="1096956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THODOLOGY &amp; TIMELIN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TextBox 13"/>
            <p:cNvSpPr/>
            <p:nvPr/>
          </p:nvSpPr>
          <p:spPr>
            <a:xfrm>
              <a:off x="-2516040" y="15835680"/>
              <a:ext cx="8676360" cy="75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endParaRPr b="0" lang="en-US" sz="7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" name="TextBox 14"/>
          <p:cNvSpPr/>
          <p:nvPr/>
        </p:nvSpPr>
        <p:spPr>
          <a:xfrm>
            <a:off x="318960" y="4630680"/>
            <a:ext cx="5026320" cy="212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432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oal: Determine the advantages and disadvantages of Free- Response and Multiple- True/False question formats for assessing student comprehension in introductory biolog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estion format is an important consideration when designing instruments to assess student comprehens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structors must decide how to effectively test a large group of students in lecture-style cours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ree-response (FR) ques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 a question prompt which students respond to with essay-style answ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ultiple-True/False (MTF) ques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 an opening question stem with accompanying statements to be marked as either true or fal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EDI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udents may be more likely to avoid or omit topics they have a poor understanding of when faced with a FR ques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TF questioning enables instructors to probe specific misconceptions that may not be addressed by students in open-ended respons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1" descr=""/>
          <p:cNvPicPr/>
          <p:nvPr/>
        </p:nvPicPr>
        <p:blipFill>
          <a:blip r:embed="rId1"/>
          <a:srcRect l="2383" t="3493" r="7213" b="0"/>
          <a:stretch/>
        </p:blipFill>
        <p:spPr>
          <a:xfrm>
            <a:off x="6519960" y="15094080"/>
            <a:ext cx="10296360" cy="70642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5"/>
          <p:cNvSpPr/>
          <p:nvPr/>
        </p:nvSpPr>
        <p:spPr>
          <a:xfrm>
            <a:off x="27490680" y="21226320"/>
            <a:ext cx="8648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 would like to thank my advisors and mentors in correspondence with this project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Brian Couc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amp;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Joanna Hubbard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nd the undergraduate research assistants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acob Moorehouse, Anh Nguyen, &amp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mar Surrett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o have given their time to make this project possible as well as the rest of the Couch Research Group for their suppor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is research was approved by UNL IRB #143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ounded Rectangle 26"/>
          <p:cNvSpPr/>
          <p:nvPr/>
        </p:nvSpPr>
        <p:spPr>
          <a:xfrm>
            <a:off x="27390600" y="4114800"/>
            <a:ext cx="8499600" cy="993600"/>
          </a:xfrm>
          <a:prstGeom prst="roundRect">
            <a:avLst>
              <a:gd name="adj" fmla="val 16667"/>
            </a:avLst>
          </a:prstGeom>
          <a:solidFill>
            <a:srgbClr val="ba0d27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193840"/>
                <a:tab algn="l" pos="4387680"/>
                <a:tab algn="l" pos="6581880"/>
                <a:tab algn="l" pos="8775720"/>
                <a:tab algn="l" pos="109695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THINGS TO CONSI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37"/>
          <p:cNvSpPr/>
          <p:nvPr/>
        </p:nvSpPr>
        <p:spPr>
          <a:xfrm>
            <a:off x="27003240" y="4968720"/>
            <a:ext cx="9232920" cy="138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TF                      F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gardless of question format, the quality of a question will affect its ability to evoke the desired answer and accurately gauge student comprehens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structors should consider using a variety of question formats in order to gain a more complete understanding of students’ comprehension of topic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41"/>
          <p:cNvSpPr/>
          <p:nvPr/>
        </p:nvSpPr>
        <p:spPr>
          <a:xfrm>
            <a:off x="5973840" y="22396320"/>
            <a:ext cx="2123892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igure 1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parison of answers for all inverted questions.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igure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 Aggregated comparison of answers for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verted ques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TF questions showed higher rates of correct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incorrect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cep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R responses often were unclear with respect to student understanding of specific ideas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t=10.024, df=51, p&lt;0.001)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t=8.095, df=51, p&lt;0.00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15"/>
          <p:cNvSpPr/>
          <p:nvPr/>
        </p:nvSpPr>
        <p:spPr>
          <a:xfrm rot="16200000">
            <a:off x="2970720" y="18191520"/>
            <a:ext cx="641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portion of Student Respon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69"/>
          <p:cNvSpPr/>
          <p:nvPr/>
        </p:nvSpPr>
        <p:spPr>
          <a:xfrm>
            <a:off x="10483920" y="18384840"/>
            <a:ext cx="2597040" cy="376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117"/>
          <p:cNvSpPr/>
          <p:nvPr/>
        </p:nvSpPr>
        <p:spPr>
          <a:xfrm>
            <a:off x="10775880" y="18311760"/>
            <a:ext cx="201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R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ounded Rectangle 82"/>
          <p:cNvSpPr/>
          <p:nvPr/>
        </p:nvSpPr>
        <p:spPr>
          <a:xfrm>
            <a:off x="325440" y="4121280"/>
            <a:ext cx="5113440" cy="1006200"/>
          </a:xfrm>
          <a:prstGeom prst="roundRect">
            <a:avLst>
              <a:gd name="adj" fmla="val 16667"/>
            </a:avLst>
          </a:prstGeom>
          <a:solidFill>
            <a:srgbClr val="ba0d27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193840"/>
                <a:tab algn="l" pos="4387680"/>
                <a:tab algn="l" pos="6581880"/>
                <a:tab algn="l" pos="8775720"/>
                <a:tab algn="l" pos="109695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us 2"/>
          <p:cNvSpPr/>
          <p:nvPr/>
        </p:nvSpPr>
        <p:spPr>
          <a:xfrm>
            <a:off x="27438480" y="7145280"/>
            <a:ext cx="1038240" cy="947880"/>
          </a:xfrm>
          <a:custGeom>
            <a:avLst/>
            <a:gdLst/>
            <a:ahLst/>
            <a:rect l="l" t="t" r="r" b="b"/>
            <a:pathLst>
              <a:path w="1038225" h="947737">
                <a:moveTo>
                  <a:pt x="137617" y="362415"/>
                </a:moveTo>
                <a:lnTo>
                  <a:pt x="407659" y="362415"/>
                </a:lnTo>
                <a:lnTo>
                  <a:pt x="407659" y="125623"/>
                </a:lnTo>
                <a:lnTo>
                  <a:pt x="630566" y="125623"/>
                </a:lnTo>
                <a:lnTo>
                  <a:pt x="630566" y="362415"/>
                </a:lnTo>
                <a:lnTo>
                  <a:pt x="900608" y="362415"/>
                </a:lnTo>
                <a:lnTo>
                  <a:pt x="900608" y="585322"/>
                </a:lnTo>
                <a:lnTo>
                  <a:pt x="630566" y="585322"/>
                </a:lnTo>
                <a:lnTo>
                  <a:pt x="630566" y="822114"/>
                </a:lnTo>
                <a:lnTo>
                  <a:pt x="407659" y="822114"/>
                </a:lnTo>
                <a:lnTo>
                  <a:pt x="407659" y="585322"/>
                </a:lnTo>
                <a:lnTo>
                  <a:pt x="137617" y="585322"/>
                </a:lnTo>
                <a:lnTo>
                  <a:pt x="137617" y="362415"/>
                </a:lnTo>
                <a:close/>
              </a:path>
            </a:pathLst>
          </a:custGeom>
          <a:solidFill>
            <a:srgbClr val="db1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Minus 3"/>
          <p:cNvSpPr/>
          <p:nvPr/>
        </p:nvSpPr>
        <p:spPr>
          <a:xfrm>
            <a:off x="27522360" y="9929880"/>
            <a:ext cx="930240" cy="1028520"/>
          </a:xfrm>
          <a:custGeom>
            <a:avLst/>
            <a:gdLst/>
            <a:ahLst/>
            <a:rect l="l" t="t" r="r" b="b"/>
            <a:pathLst>
              <a:path w="930275" h="1028700">
                <a:moveTo>
                  <a:pt x="123308" y="393375"/>
                </a:moveTo>
                <a:lnTo>
                  <a:pt x="806967" y="393375"/>
                </a:lnTo>
                <a:lnTo>
                  <a:pt x="806967" y="635325"/>
                </a:lnTo>
                <a:lnTo>
                  <a:pt x="123308" y="635325"/>
                </a:lnTo>
                <a:lnTo>
                  <a:pt x="123308" y="393375"/>
                </a:lnTo>
                <a:close/>
              </a:path>
            </a:pathLst>
          </a:custGeom>
          <a:solidFill>
            <a:srgbClr val="db1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8683000" y="6205680"/>
          <a:ext cx="7031160" cy="9037440"/>
        </p:xfrm>
        <a:graphic>
          <a:graphicData uri="http://schemas.openxmlformats.org/drawingml/2006/table">
            <a:tbl>
              <a:tblPr/>
              <a:tblGrid>
                <a:gridCol w="3516120"/>
                <a:gridCol w="3515040"/>
              </a:tblGrid>
              <a:tr h="4657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3657600"/>
                          <a:tab algn="l" pos="5486400"/>
                          <a:tab algn="l" pos="73152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vides instructors with clear answers that can be used to gauge student comprehens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3657600"/>
                          <a:tab algn="l" pos="5486400"/>
                          <a:tab algn="l" pos="73152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ives students the opportunity to articulate their thoughts &amp; allows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ynthetic think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9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3657600"/>
                          <a:tab algn="l" pos="5486400"/>
                          <a:tab algn="l" pos="73152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udents can use cues in the statements to select correct answer without fully comprehending the concep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3657600"/>
                          <a:tab algn="l" pos="5486400"/>
                          <a:tab algn="l" pos="73152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swers can be vague or off-top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3657600"/>
                          <a:tab algn="l" pos="5486400"/>
                          <a:tab algn="l" pos="7315200"/>
                          <a:tab algn="l" pos="91440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3657600"/>
                          <a:tab algn="l" pos="5486400"/>
                          <a:tab algn="l" pos="73152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nnot gauge student comprehension of content they omit from their answ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9" name="Picture 11" descr=""/>
          <p:cNvPicPr/>
          <p:nvPr/>
        </p:nvPicPr>
        <p:blipFill>
          <a:blip r:embed="rId2"/>
          <a:srcRect l="2736" t="0" r="0" b="462"/>
          <a:stretch/>
        </p:blipFill>
        <p:spPr>
          <a:xfrm>
            <a:off x="18840600" y="14846400"/>
            <a:ext cx="7731000" cy="7178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5" descr=""/>
          <p:cNvPicPr/>
          <p:nvPr/>
        </p:nvPicPr>
        <p:blipFill>
          <a:blip r:embed="rId3"/>
          <a:stretch/>
        </p:blipFill>
        <p:spPr>
          <a:xfrm>
            <a:off x="20497680" y="14744880"/>
            <a:ext cx="4988160" cy="1431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"/>
          <p:cNvPicPr/>
          <p:nvPr/>
        </p:nvPicPr>
        <p:blipFill>
          <a:blip r:embed="rId4"/>
          <a:stretch/>
        </p:blipFill>
        <p:spPr>
          <a:xfrm>
            <a:off x="24212520" y="15094080"/>
            <a:ext cx="2195640" cy="2133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12" name="TextBox 115"/>
          <p:cNvSpPr/>
          <p:nvPr/>
        </p:nvSpPr>
        <p:spPr>
          <a:xfrm rot="16200000">
            <a:off x="15152040" y="18125280"/>
            <a:ext cx="641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portion of Student Respon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18"/>
          <p:cNvSpPr/>
          <p:nvPr/>
        </p:nvSpPr>
        <p:spPr>
          <a:xfrm>
            <a:off x="20023200" y="21888360"/>
            <a:ext cx="5462640" cy="2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19" descr=""/>
          <p:cNvPicPr/>
          <p:nvPr/>
        </p:nvPicPr>
        <p:blipFill>
          <a:blip r:embed="rId5"/>
          <a:stretch/>
        </p:blipFill>
        <p:spPr>
          <a:xfrm>
            <a:off x="23453640" y="21709080"/>
            <a:ext cx="2200320" cy="749160"/>
          </a:xfrm>
          <a:prstGeom prst="rect">
            <a:avLst/>
          </a:prstGeom>
          <a:ln w="0">
            <a:noFill/>
          </a:ln>
        </p:spPr>
      </p:pic>
      <p:sp>
        <p:nvSpPr>
          <p:cNvPr id="115" name="TextBox 67"/>
          <p:cNvSpPr/>
          <p:nvPr/>
        </p:nvSpPr>
        <p:spPr>
          <a:xfrm>
            <a:off x="10701360" y="14648040"/>
            <a:ext cx="378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TF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0" descr=""/>
          <p:cNvPicPr/>
          <p:nvPr/>
        </p:nvPicPr>
        <p:blipFill>
          <a:blip r:embed="rId6"/>
          <a:stretch/>
        </p:blipFill>
        <p:spPr>
          <a:xfrm>
            <a:off x="19521360" y="21739320"/>
            <a:ext cx="3908520" cy="74916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114"/>
          <p:cNvSpPr/>
          <p:nvPr/>
        </p:nvSpPr>
        <p:spPr>
          <a:xfrm>
            <a:off x="5932440" y="6753240"/>
            <a:ext cx="3148200" cy="2516040"/>
          </a:xfrm>
          <a:prstGeom prst="rect">
            <a:avLst/>
          </a:prstGeom>
          <a:solidFill>
            <a:srgbClr val="6beb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Students answer FR prompts on homework assign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115"/>
          <p:cNvSpPr/>
          <p:nvPr/>
        </p:nvSpPr>
        <p:spPr>
          <a:xfrm>
            <a:off x="9628200" y="6788160"/>
            <a:ext cx="3803760" cy="2481120"/>
          </a:xfrm>
          <a:prstGeom prst="rect">
            <a:avLst/>
          </a:prstGeom>
          <a:solidFill>
            <a:srgbClr val="f194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Code for most common correct &amp; incorrect student ideas for each FR promp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116"/>
          <p:cNvSpPr/>
          <p:nvPr/>
        </p:nvSpPr>
        <p:spPr>
          <a:xfrm>
            <a:off x="14067000" y="6759720"/>
            <a:ext cx="3944880" cy="2477880"/>
          </a:xfrm>
          <a:prstGeom prst="rect">
            <a:avLst/>
          </a:prstGeom>
          <a:solidFill>
            <a:srgbClr val="99b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Create 1 FR and 4 MTF statements  based on most common ideas for student exa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118"/>
          <p:cNvSpPr/>
          <p:nvPr/>
        </p:nvSpPr>
        <p:spPr>
          <a:xfrm>
            <a:off x="18640440" y="6781680"/>
            <a:ext cx="3549600" cy="2487600"/>
          </a:xfrm>
          <a:prstGeom prst="rect">
            <a:avLst/>
          </a:prstGeom>
          <a:solidFill>
            <a:srgbClr val="6beb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Students complete an exam that addresses the same ideas in either FR or MTF form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119"/>
          <p:cNvSpPr/>
          <p:nvPr/>
        </p:nvSpPr>
        <p:spPr>
          <a:xfrm>
            <a:off x="22826520" y="6784920"/>
            <a:ext cx="4086360" cy="2441520"/>
          </a:xfrm>
          <a:prstGeom prst="rect">
            <a:avLst/>
          </a:prstGeom>
          <a:solidFill>
            <a:srgbClr val="f194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4 MTF statements used to assess whether FR answer omits, correctly, or incorrectly addresses each promp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35" descr=""/>
          <p:cNvPicPr/>
          <p:nvPr/>
        </p:nvPicPr>
        <p:blipFill>
          <a:blip r:embed="rId7"/>
          <a:stretch/>
        </p:blipFill>
        <p:spPr>
          <a:xfrm>
            <a:off x="13554000" y="7880400"/>
            <a:ext cx="708120" cy="566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6" descr=""/>
          <p:cNvPicPr/>
          <p:nvPr/>
        </p:nvPicPr>
        <p:blipFill>
          <a:blip r:embed="rId8"/>
          <a:stretch/>
        </p:blipFill>
        <p:spPr>
          <a:xfrm>
            <a:off x="18113400" y="7880400"/>
            <a:ext cx="708120" cy="566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8" descr=""/>
          <p:cNvPicPr/>
          <p:nvPr/>
        </p:nvPicPr>
        <p:blipFill>
          <a:blip r:embed="rId9"/>
          <a:stretch/>
        </p:blipFill>
        <p:spPr>
          <a:xfrm>
            <a:off x="9088560" y="7880400"/>
            <a:ext cx="707760" cy="566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9" descr=""/>
          <p:cNvPicPr/>
          <p:nvPr/>
        </p:nvPicPr>
        <p:blipFill>
          <a:blip r:embed="rId10"/>
          <a:stretch/>
        </p:blipFill>
        <p:spPr>
          <a:xfrm>
            <a:off x="22305960" y="7794720"/>
            <a:ext cx="706320" cy="566640"/>
          </a:xfrm>
          <a:prstGeom prst="rect">
            <a:avLst/>
          </a:prstGeom>
          <a:ln w="0">
            <a:noFill/>
          </a:ln>
        </p:spPr>
      </p:pic>
      <p:sp>
        <p:nvSpPr>
          <p:cNvPr id="126" name="TextBox 40"/>
          <p:cNvSpPr/>
          <p:nvPr/>
        </p:nvSpPr>
        <p:spPr>
          <a:xfrm>
            <a:off x="5587920" y="5587920"/>
            <a:ext cx="361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Fall 20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138"/>
          <p:cNvSpPr/>
          <p:nvPr/>
        </p:nvSpPr>
        <p:spPr>
          <a:xfrm>
            <a:off x="9753480" y="5572080"/>
            <a:ext cx="361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Summer 20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139"/>
          <p:cNvSpPr/>
          <p:nvPr/>
        </p:nvSpPr>
        <p:spPr>
          <a:xfrm>
            <a:off x="16568640" y="5506920"/>
            <a:ext cx="361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Fall 20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140"/>
          <p:cNvSpPr/>
          <p:nvPr/>
        </p:nvSpPr>
        <p:spPr>
          <a:xfrm>
            <a:off x="23037840" y="5538960"/>
            <a:ext cx="361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Spring 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Left Bracket 44"/>
          <p:cNvSpPr/>
          <p:nvPr/>
        </p:nvSpPr>
        <p:spPr>
          <a:xfrm rot="5400000">
            <a:off x="18252360" y="5537880"/>
            <a:ext cx="171360" cy="2027520"/>
          </a:xfrm>
          <a:custGeom>
            <a:avLst/>
            <a:gdLst>
              <a:gd name="textAreaLeft" fmla="*/ 50400 w 171360"/>
              <a:gd name="textAreaRight" fmla="*/ 171720 w 171360"/>
              <a:gd name="textAreaTop" fmla="*/ 6840 h 2027520"/>
              <a:gd name="textAreaBottom" fmla="*/ 2020680 h 2027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76"/>
                  <a:pt x="0" y="152"/>
                </a:cubicBezTo>
                <a:lnTo>
                  <a:pt x="0" y="21448"/>
                </a:lnTo>
                <a:cubicBezTo>
                  <a:pt x="0" y="21524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74"/>
          <p:cNvSpPr/>
          <p:nvPr/>
        </p:nvSpPr>
        <p:spPr>
          <a:xfrm>
            <a:off x="5683320" y="9555120"/>
            <a:ext cx="3618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eukaryotic cell's DNA is housed in a nucleus. How is the information contained in the nucleus exported and used to guide a cell's activities?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73"/>
          <p:cNvSpPr/>
          <p:nvPr/>
        </p:nvSpPr>
        <p:spPr>
          <a:xfrm>
            <a:off x="9515520" y="9483840"/>
            <a:ext cx="10572840" cy="28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57b894"/>
                </a:solidFill>
                <a:latin typeface="Arial"/>
                <a:ea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/F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mRNA is synthesized in the nucleus from a DNA templa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57b894"/>
                </a:solidFill>
                <a:latin typeface="Arial"/>
                <a:ea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/F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mRNA is exported from the nucleus into the cytoplas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/</a:t>
            </a:r>
            <a:r>
              <a:rPr b="1" lang="en-US" sz="2800" spc="-1" strike="noStrike">
                <a:solidFill>
                  <a:srgbClr val="57b894"/>
                </a:solidFill>
                <a:latin typeface="Arial"/>
                <a:ea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teins are synthesized by ribosomes in the nucle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rom an mRNA templa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57b894"/>
                </a:solidFill>
                <a:latin typeface="Arial"/>
                <a:ea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/F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teins are transported to the proper location in the c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their fun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54"/>
          <p:cNvSpPr/>
          <p:nvPr/>
        </p:nvSpPr>
        <p:spPr>
          <a:xfrm>
            <a:off x="11404440" y="19040400"/>
            <a:ext cx="793800" cy="26654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159"/>
          <p:cNvSpPr/>
          <p:nvPr/>
        </p:nvSpPr>
        <p:spPr>
          <a:xfrm>
            <a:off x="11404440" y="15486120"/>
            <a:ext cx="795600" cy="25621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4095"/>
          <p:cNvSpPr/>
          <p:nvPr/>
        </p:nvSpPr>
        <p:spPr>
          <a:xfrm>
            <a:off x="20185200" y="10304640"/>
            <a:ext cx="6824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NA is transcribed into mRNA and is transported out of the nucleus. When the new protein leaves the nucleus, it is sent to the cytosol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4096"/>
          <p:cNvSpPr/>
          <p:nvPr/>
        </p:nvSpPr>
        <p:spPr>
          <a:xfrm>
            <a:off x="21158280" y="10410840"/>
            <a:ext cx="4773600" cy="349200"/>
          </a:xfrm>
          <a:prstGeom prst="rect">
            <a:avLst/>
          </a:prstGeom>
          <a:noFill/>
          <a:ln w="38160">
            <a:solidFill>
              <a:srgbClr val="57b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162"/>
          <p:cNvSpPr/>
          <p:nvPr/>
        </p:nvSpPr>
        <p:spPr>
          <a:xfrm>
            <a:off x="20459880" y="11207880"/>
            <a:ext cx="4987800" cy="452160"/>
          </a:xfrm>
          <a:prstGeom prst="rect">
            <a:avLst/>
          </a:prstGeom>
          <a:noFill/>
          <a:ln w="38160">
            <a:solidFill>
              <a:srgbClr val="849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164"/>
          <p:cNvSpPr/>
          <p:nvPr/>
        </p:nvSpPr>
        <p:spPr>
          <a:xfrm>
            <a:off x="20467800" y="10764720"/>
            <a:ext cx="4711680" cy="452520"/>
          </a:xfrm>
          <a:prstGeom prst="rect">
            <a:avLst/>
          </a:prstGeom>
          <a:noFill/>
          <a:ln w="38160">
            <a:solidFill>
              <a:srgbClr val="57b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4100"/>
          <p:cNvSpPr/>
          <p:nvPr/>
        </p:nvSpPr>
        <p:spPr>
          <a:xfrm>
            <a:off x="24482520" y="9575640"/>
            <a:ext cx="22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1) Corr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166"/>
          <p:cNvSpPr/>
          <p:nvPr/>
        </p:nvSpPr>
        <p:spPr>
          <a:xfrm>
            <a:off x="20113560" y="9620280"/>
            <a:ext cx="221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2) Corr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167"/>
          <p:cNvSpPr/>
          <p:nvPr/>
        </p:nvSpPr>
        <p:spPr>
          <a:xfrm>
            <a:off x="20377080" y="12436560"/>
            <a:ext cx="221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3) Incorr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168"/>
          <p:cNvSpPr/>
          <p:nvPr/>
        </p:nvSpPr>
        <p:spPr>
          <a:xfrm>
            <a:off x="24069600" y="12474720"/>
            <a:ext cx="221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*(4) Omit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traight Connector 4103"/>
          <p:cNvSpPr/>
          <p:nvPr/>
        </p:nvSpPr>
        <p:spPr>
          <a:xfrm flipH="1">
            <a:off x="23748840" y="9929880"/>
            <a:ext cx="741600" cy="293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traight Connector 173"/>
          <p:cNvSpPr/>
          <p:nvPr/>
        </p:nvSpPr>
        <p:spPr>
          <a:xfrm>
            <a:off x="20415240" y="10180800"/>
            <a:ext cx="209520" cy="466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4125" descr=""/>
          <p:cNvPicPr/>
          <p:nvPr/>
        </p:nvPicPr>
        <p:blipFill>
          <a:blip r:embed="rId11"/>
          <a:stretch/>
        </p:blipFill>
        <p:spPr>
          <a:xfrm rot="19624800">
            <a:off x="20508840" y="11953440"/>
            <a:ext cx="852480" cy="420840"/>
          </a:xfrm>
          <a:prstGeom prst="rect">
            <a:avLst/>
          </a:prstGeom>
          <a:ln w="0">
            <a:noFill/>
          </a:ln>
        </p:spPr>
      </p:pic>
      <p:sp>
        <p:nvSpPr>
          <p:cNvPr id="146" name="TextBox 6"/>
          <p:cNvSpPr/>
          <p:nvPr/>
        </p:nvSpPr>
        <p:spPr>
          <a:xfrm>
            <a:off x="23037840" y="18050040"/>
            <a:ext cx="18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45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68"/>
          <p:cNvSpPr/>
          <p:nvPr/>
        </p:nvSpPr>
        <p:spPr>
          <a:xfrm>
            <a:off x="20686680" y="19572120"/>
            <a:ext cx="18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24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70"/>
          <p:cNvSpPr/>
          <p:nvPr/>
        </p:nvSpPr>
        <p:spPr>
          <a:xfrm>
            <a:off x="19705680" y="16124400"/>
            <a:ext cx="18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75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71"/>
          <p:cNvSpPr/>
          <p:nvPr/>
        </p:nvSpPr>
        <p:spPr>
          <a:xfrm>
            <a:off x="24060240" y="20702520"/>
            <a:ext cx="18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08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72"/>
          <p:cNvSpPr/>
          <p:nvPr/>
        </p:nvSpPr>
        <p:spPr>
          <a:xfrm>
            <a:off x="25072920" y="18023040"/>
            <a:ext cx="18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46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traight Connector 72"/>
          <p:cNvSpPr/>
          <p:nvPr/>
        </p:nvSpPr>
        <p:spPr>
          <a:xfrm>
            <a:off x="18372240" y="5970600"/>
            <a:ext cx="6120" cy="469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7" descr=""/>
          <p:cNvPicPr/>
          <p:nvPr/>
        </p:nvPicPr>
        <p:blipFill>
          <a:blip r:embed="rId12"/>
          <a:stretch/>
        </p:blipFill>
        <p:spPr>
          <a:xfrm>
            <a:off x="10531440" y="6029280"/>
            <a:ext cx="2054160" cy="6825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"/>
          <p:cNvPicPr/>
          <p:nvPr/>
        </p:nvPicPr>
        <p:blipFill>
          <a:blip r:embed="rId13"/>
          <a:stretch/>
        </p:blipFill>
        <p:spPr>
          <a:xfrm>
            <a:off x="6418440" y="6026040"/>
            <a:ext cx="2055600" cy="6825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1" descr=""/>
          <p:cNvPicPr/>
          <p:nvPr/>
        </p:nvPicPr>
        <p:blipFill>
          <a:blip r:embed="rId14"/>
          <a:stretch/>
        </p:blipFill>
        <p:spPr>
          <a:xfrm>
            <a:off x="23842800" y="6060960"/>
            <a:ext cx="2054160" cy="6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1T15:33:19Z</dcterms:created>
  <dc:creator>Jefferson Holland</dc:creator>
  <dc:description/>
  <dc:language>en-US</dc:language>
  <cp:lastModifiedBy>Paul Royster</cp:lastModifiedBy>
  <dcterms:modified xsi:type="dcterms:W3CDTF">2016-04-12T20:38:14Z</dcterms:modified>
  <cp:revision>165</cp:revision>
  <dc:subject/>
  <dc:title>PowerPoint Presentation</dc:title>
</cp:coreProperties>
</file>