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36576000" cy="2743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58CAB4-B4A9-4EB6-905A-EF9607CEF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ultiple choice              8/10 contr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 multiple true/false          10/14 cont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ree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control questions are uniform across each exam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787B62-4465-4359-A1E5-CBBE829E8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DA9-D2AB-41AB-9422-99D75B4D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7E1-5675-4BF2-92BE-8D97398E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CF3-B5E2-4512-BF88-66F7C5DA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768-B18A-4F18-9A6E-854B5C27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5F8-F0D3-4667-8DA3-851D2D61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BCE-0B0E-40F3-9052-FDE2F732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1F4-070D-42E5-B982-A35AB5D5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C60-753E-4C73-A0F8-02B10747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B6E-73BA-45AA-BEA1-C4FFA7D6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4F0-CE53-41E2-AADD-664E71F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A13-8F87-43D0-AEF0-CAD746A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753-EF48-4384-B819-4B380BF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5425000"/>
            <a:ext cx="8534520" cy="1460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4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5425000"/>
            <a:ext cx="11582640" cy="1460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5425000"/>
            <a:ext cx="8534520" cy="1460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4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2B8621-D50E-4B71-91D5-A4FE6BF5BC7D}" type="slidenum">
              <a:rPr b="0" lang="en-US" sz="4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4146480" y="-109080"/>
            <a:ext cx="3242952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Assessing Student Comprehension in Introductory Biology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7500" spc="-1" strike="noStrike">
                <a:solidFill>
                  <a:srgbClr val="ffffff"/>
                </a:solidFill>
                <a:latin typeface="Arial"/>
                <a:ea typeface="Arial"/>
              </a:rPr>
              <a:t>A Comparison of Free-Response and Multiple-True/False Exam Formats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483080" y="2425680"/>
            <a:ext cx="3242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Macy Pott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 |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Joanna Hubbard, PhD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 |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Brian Couch, Ph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27312840" y="19705680"/>
            <a:ext cx="8647200" cy="1224000"/>
            <a:chOff x="27312840" y="19705680"/>
            <a:chExt cx="8647200" cy="1224000"/>
          </a:xfrm>
        </p:grpSpPr>
        <p:sp>
          <p:nvSpPr>
            <p:cNvPr id="90" name="Rounded Rectangle 4"/>
            <p:cNvSpPr/>
            <p:nvPr/>
          </p:nvSpPr>
          <p:spPr>
            <a:xfrm>
              <a:off x="27611280" y="19761120"/>
              <a:ext cx="8348760" cy="1168560"/>
            </a:xfrm>
            <a:prstGeom prst="roundRect">
              <a:avLst>
                <a:gd name="adj" fmla="val 16667"/>
              </a:avLst>
            </a:prstGeom>
            <a:solidFill>
              <a:srgbClr val="ba0d27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193840"/>
                  <a:tab algn="l" pos="4387680"/>
                  <a:tab algn="l" pos="6581880"/>
                  <a:tab algn="l" pos="8775720"/>
                  <a:tab algn="l" pos="1096956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KNOWLEDGEMEN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27312840" y="19705680"/>
              <a:ext cx="783252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ounded Rectangle 8"/>
          <p:cNvSpPr/>
          <p:nvPr/>
        </p:nvSpPr>
        <p:spPr>
          <a:xfrm>
            <a:off x="5789520" y="13511160"/>
            <a:ext cx="21301200" cy="1022400"/>
          </a:xfrm>
          <a:prstGeom prst="roundRect">
            <a:avLst>
              <a:gd name="adj" fmla="val 16667"/>
            </a:avLst>
          </a:prstGeom>
          <a:solidFill>
            <a:srgbClr val="ba0d2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193840"/>
                <a:tab algn="l" pos="4387680"/>
                <a:tab algn="l" pos="6581880"/>
                <a:tab algn="l" pos="8775720"/>
                <a:tab algn="l" pos="10969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-2516040" y="4073400"/>
            <a:ext cx="29238480" cy="12516120"/>
            <a:chOff x="-2516040" y="4073400"/>
            <a:chExt cx="29238480" cy="12516120"/>
          </a:xfrm>
        </p:grpSpPr>
        <p:sp>
          <p:nvSpPr>
            <p:cNvPr id="94" name="Rounded Rectangle 12"/>
            <p:cNvSpPr/>
            <p:nvPr/>
          </p:nvSpPr>
          <p:spPr>
            <a:xfrm>
              <a:off x="6159600" y="4073400"/>
              <a:ext cx="20562840" cy="1006200"/>
            </a:xfrm>
            <a:prstGeom prst="roundRect">
              <a:avLst>
                <a:gd name="adj" fmla="val 16667"/>
              </a:avLst>
            </a:prstGeom>
            <a:solidFill>
              <a:srgbClr val="ba0d27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193840"/>
                  <a:tab algn="l" pos="4387680"/>
                  <a:tab algn="l" pos="6581880"/>
                  <a:tab algn="l" pos="8775720"/>
                  <a:tab algn="l" pos="1096956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OLOGY &amp; TIMELI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3"/>
            <p:cNvSpPr/>
            <p:nvPr/>
          </p:nvSpPr>
          <p:spPr>
            <a:xfrm>
              <a:off x="-2516040" y="15835680"/>
              <a:ext cx="867636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318960" y="4630680"/>
            <a:ext cx="5026320" cy="212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al: Determine the advantages and disadvantages of Free- Response and Multiple- True/False question formats for assessing student comprehension in introductory bi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 format is an important consideration when designing instruments to assess student compreh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ors must decide how to effectively test a large group of students in lecture-style cour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-response (FR)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a question prompt which students respond to with essay-style 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e-True/False (MTF)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an opening question stem with accompanying statements to be marked as either true or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ents may be more likely to avoid or omit topics they have a poor understanding of when faced with a FR ques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TF questioning enables instructors to probe specific misconceptions that may not be addressed by students in open-ended respo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rcRect l="2383" t="3493" r="7213" b="0"/>
          <a:stretch/>
        </p:blipFill>
        <p:spPr>
          <a:xfrm>
            <a:off x="6519960" y="15094080"/>
            <a:ext cx="10296360" cy="706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27490680" y="21226320"/>
            <a:ext cx="8648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would like to thank my advisors and mentors in correspondence with this proj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Brian Co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Joanna Hubbard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the undergraduate research assista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cob Moorehouse, Anh Nguyen,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mar Surret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have given their time to make this project possible as well as the rest of the Couch Research Group for their suppo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research was approved by UNL IRB #143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26"/>
          <p:cNvSpPr/>
          <p:nvPr/>
        </p:nvSpPr>
        <p:spPr>
          <a:xfrm>
            <a:off x="27390600" y="4114800"/>
            <a:ext cx="8499600" cy="993600"/>
          </a:xfrm>
          <a:prstGeom prst="roundRect">
            <a:avLst>
              <a:gd name="adj" fmla="val 16667"/>
            </a:avLst>
          </a:prstGeom>
          <a:solidFill>
            <a:srgbClr val="ba0d2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193840"/>
                <a:tab algn="l" pos="4387680"/>
                <a:tab algn="l" pos="6581880"/>
                <a:tab algn="l" pos="8775720"/>
                <a:tab algn="l" pos="10969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27003240" y="4968720"/>
            <a:ext cx="9232920" cy="13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TF                      F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ardless of question format, the quality of a question will affect its ability to evoke the desired answer and accurately gauge student compreh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ructors should consider using a variety of question formats in order to gain a more complete understanding of students’ comprehension of top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1"/>
          <p:cNvSpPr/>
          <p:nvPr/>
        </p:nvSpPr>
        <p:spPr>
          <a:xfrm>
            <a:off x="5973840" y="22396320"/>
            <a:ext cx="212389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rison of answers for all inverted questions.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Aggregated comparison of answers for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ted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TF questions showed higher rates of correc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incorrec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 responses often were unclear with respect to student understanding of specific idea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=10.024, df=51, p&lt;0.001)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=8.095, df=51, p&lt;0.0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5"/>
          <p:cNvSpPr/>
          <p:nvPr/>
        </p:nvSpPr>
        <p:spPr>
          <a:xfrm rot="16200000">
            <a:off x="2970720" y="18191520"/>
            <a:ext cx="64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portion of Student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9"/>
          <p:cNvSpPr/>
          <p:nvPr/>
        </p:nvSpPr>
        <p:spPr>
          <a:xfrm>
            <a:off x="10483920" y="18384840"/>
            <a:ext cx="25970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17"/>
          <p:cNvSpPr/>
          <p:nvPr/>
        </p:nvSpPr>
        <p:spPr>
          <a:xfrm>
            <a:off x="10775880" y="18311760"/>
            <a:ext cx="20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82"/>
          <p:cNvSpPr/>
          <p:nvPr/>
        </p:nvSpPr>
        <p:spPr>
          <a:xfrm>
            <a:off x="325440" y="4121280"/>
            <a:ext cx="5113440" cy="1006200"/>
          </a:xfrm>
          <a:prstGeom prst="roundRect">
            <a:avLst>
              <a:gd name="adj" fmla="val 16667"/>
            </a:avLst>
          </a:prstGeom>
          <a:solidFill>
            <a:srgbClr val="ba0d2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193840"/>
                <a:tab algn="l" pos="4387680"/>
                <a:tab algn="l" pos="6581880"/>
                <a:tab algn="l" pos="8775720"/>
                <a:tab algn="l" pos="10969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us 2"/>
          <p:cNvSpPr/>
          <p:nvPr/>
        </p:nvSpPr>
        <p:spPr>
          <a:xfrm>
            <a:off x="27438480" y="7145280"/>
            <a:ext cx="1038240" cy="947880"/>
          </a:xfrm>
          <a:custGeom>
            <a:avLst/>
            <a:gdLst/>
            <a:ahLst/>
            <a:rect l="l" t="t" r="r" b="b"/>
            <a:pathLst>
              <a:path w="1038225" h="947737">
                <a:moveTo>
                  <a:pt x="137617" y="362415"/>
                </a:moveTo>
                <a:lnTo>
                  <a:pt x="407659" y="362415"/>
                </a:lnTo>
                <a:lnTo>
                  <a:pt x="407659" y="125623"/>
                </a:lnTo>
                <a:lnTo>
                  <a:pt x="630566" y="125623"/>
                </a:lnTo>
                <a:lnTo>
                  <a:pt x="630566" y="362415"/>
                </a:lnTo>
                <a:lnTo>
                  <a:pt x="900608" y="362415"/>
                </a:lnTo>
                <a:lnTo>
                  <a:pt x="900608" y="585322"/>
                </a:lnTo>
                <a:lnTo>
                  <a:pt x="630566" y="585322"/>
                </a:lnTo>
                <a:lnTo>
                  <a:pt x="630566" y="822114"/>
                </a:lnTo>
                <a:lnTo>
                  <a:pt x="407659" y="822114"/>
                </a:lnTo>
                <a:lnTo>
                  <a:pt x="407659" y="585322"/>
                </a:lnTo>
                <a:lnTo>
                  <a:pt x="137617" y="585322"/>
                </a:lnTo>
                <a:lnTo>
                  <a:pt x="137617" y="362415"/>
                </a:lnTo>
                <a:close/>
              </a:path>
            </a:pathLst>
          </a:custGeom>
          <a:solidFill>
            <a:srgbClr val="db1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Minus 3"/>
          <p:cNvSpPr/>
          <p:nvPr/>
        </p:nvSpPr>
        <p:spPr>
          <a:xfrm>
            <a:off x="27522360" y="9929880"/>
            <a:ext cx="930240" cy="1028520"/>
          </a:xfrm>
          <a:custGeom>
            <a:avLst/>
            <a:gdLst/>
            <a:ahLst/>
            <a:rect l="l" t="t" r="r" b="b"/>
            <a:pathLst>
              <a:path w="930275" h="1028700">
                <a:moveTo>
                  <a:pt x="123308" y="393375"/>
                </a:moveTo>
                <a:lnTo>
                  <a:pt x="806967" y="393375"/>
                </a:lnTo>
                <a:lnTo>
                  <a:pt x="806967" y="635325"/>
                </a:lnTo>
                <a:lnTo>
                  <a:pt x="123308" y="635325"/>
                </a:lnTo>
                <a:lnTo>
                  <a:pt x="123308" y="393375"/>
                </a:lnTo>
                <a:close/>
              </a:path>
            </a:pathLst>
          </a:custGeom>
          <a:solidFill>
            <a:srgbClr val="db1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683000" y="6205680"/>
          <a:ext cx="7031160" cy="9037440"/>
        </p:xfrm>
        <a:graphic>
          <a:graphicData uri="http://schemas.openxmlformats.org/drawingml/2006/table">
            <a:tbl>
              <a:tblPr/>
              <a:tblGrid>
                <a:gridCol w="3516120"/>
                <a:gridCol w="3515040"/>
              </a:tblGrid>
              <a:tr h="4657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s instructors with clear answers that can be used to gauge student compreh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ves students the opportunity to articulate their thoughts &amp; allow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ynthetic thin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9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ents can use cues in the statements to select correct answer without fully comprehending the con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wers can be vague or off-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3657600"/>
                          <a:tab algn="l" pos="5486400"/>
                          <a:tab algn="l" pos="73152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not gauge student comprehension of content they omit from their 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11" descr=""/>
          <p:cNvPicPr/>
          <p:nvPr/>
        </p:nvPicPr>
        <p:blipFill>
          <a:blip r:embed="rId2"/>
          <a:srcRect l="2736" t="0" r="0" b="462"/>
          <a:stretch/>
        </p:blipFill>
        <p:spPr>
          <a:xfrm>
            <a:off x="18840600" y="14846400"/>
            <a:ext cx="7731000" cy="7178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3"/>
          <a:stretch/>
        </p:blipFill>
        <p:spPr>
          <a:xfrm>
            <a:off x="20497680" y="14744880"/>
            <a:ext cx="4988160" cy="143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24212520" y="15094080"/>
            <a:ext cx="2195640" cy="2133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2" name="TextBox 115"/>
          <p:cNvSpPr/>
          <p:nvPr/>
        </p:nvSpPr>
        <p:spPr>
          <a:xfrm rot="16200000">
            <a:off x="15152040" y="18125280"/>
            <a:ext cx="64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portion of Student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0023200" y="21888360"/>
            <a:ext cx="546264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9" descr=""/>
          <p:cNvPicPr/>
          <p:nvPr/>
        </p:nvPicPr>
        <p:blipFill>
          <a:blip r:embed="rId5"/>
          <a:stretch/>
        </p:blipFill>
        <p:spPr>
          <a:xfrm>
            <a:off x="23453640" y="21709080"/>
            <a:ext cx="2200320" cy="749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7"/>
          <p:cNvSpPr/>
          <p:nvPr/>
        </p:nvSpPr>
        <p:spPr>
          <a:xfrm>
            <a:off x="10701360" y="14648040"/>
            <a:ext cx="37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TF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0" descr=""/>
          <p:cNvPicPr/>
          <p:nvPr/>
        </p:nvPicPr>
        <p:blipFill>
          <a:blip r:embed="rId6"/>
          <a:stretch/>
        </p:blipFill>
        <p:spPr>
          <a:xfrm>
            <a:off x="19521360" y="21739320"/>
            <a:ext cx="3908520" cy="749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4"/>
          <p:cNvSpPr/>
          <p:nvPr/>
        </p:nvSpPr>
        <p:spPr>
          <a:xfrm>
            <a:off x="5932440" y="6753240"/>
            <a:ext cx="3148200" cy="2516040"/>
          </a:xfrm>
          <a:prstGeom prst="rect">
            <a:avLst/>
          </a:prstGeom>
          <a:solidFill>
            <a:srgbClr val="6be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Students answer FR prompts on homework assig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5"/>
          <p:cNvSpPr/>
          <p:nvPr/>
        </p:nvSpPr>
        <p:spPr>
          <a:xfrm>
            <a:off x="9628200" y="6788160"/>
            <a:ext cx="3803760" cy="2481120"/>
          </a:xfrm>
          <a:prstGeom prst="rect">
            <a:avLst/>
          </a:prstGeom>
          <a:solidFill>
            <a:srgbClr val="f19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ode for most common correct &amp; incorrect student ideas for each FR promp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16"/>
          <p:cNvSpPr/>
          <p:nvPr/>
        </p:nvSpPr>
        <p:spPr>
          <a:xfrm>
            <a:off x="14067000" y="6759720"/>
            <a:ext cx="3944880" cy="2477880"/>
          </a:xfrm>
          <a:prstGeom prst="rect">
            <a:avLst/>
          </a:prstGeom>
          <a:solidFill>
            <a:srgbClr val="99b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reate 1 FR and 4 MTF statements  based on most common ideas for student ex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18"/>
          <p:cNvSpPr/>
          <p:nvPr/>
        </p:nvSpPr>
        <p:spPr>
          <a:xfrm>
            <a:off x="18640440" y="6781680"/>
            <a:ext cx="3549600" cy="2487600"/>
          </a:xfrm>
          <a:prstGeom prst="rect">
            <a:avLst/>
          </a:prstGeom>
          <a:solidFill>
            <a:srgbClr val="6be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Students complete an exam that addresses the same ideas in either FR or MTF form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19"/>
          <p:cNvSpPr/>
          <p:nvPr/>
        </p:nvSpPr>
        <p:spPr>
          <a:xfrm>
            <a:off x="22826520" y="6784920"/>
            <a:ext cx="4086360" cy="2441520"/>
          </a:xfrm>
          <a:prstGeom prst="rect">
            <a:avLst/>
          </a:prstGeom>
          <a:solidFill>
            <a:srgbClr val="f19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4 MTF statements used to assess whether FR answer omits, correctly, or incorrectly addresses each promp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5" descr=""/>
          <p:cNvPicPr/>
          <p:nvPr/>
        </p:nvPicPr>
        <p:blipFill>
          <a:blip r:embed="rId7"/>
          <a:stretch/>
        </p:blipFill>
        <p:spPr>
          <a:xfrm>
            <a:off x="13554000" y="7880400"/>
            <a:ext cx="708120" cy="56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6" descr=""/>
          <p:cNvPicPr/>
          <p:nvPr/>
        </p:nvPicPr>
        <p:blipFill>
          <a:blip r:embed="rId8"/>
          <a:stretch/>
        </p:blipFill>
        <p:spPr>
          <a:xfrm>
            <a:off x="18113400" y="7880400"/>
            <a:ext cx="708120" cy="56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8" descr=""/>
          <p:cNvPicPr/>
          <p:nvPr/>
        </p:nvPicPr>
        <p:blipFill>
          <a:blip r:embed="rId9"/>
          <a:stretch/>
        </p:blipFill>
        <p:spPr>
          <a:xfrm>
            <a:off x="9088560" y="7880400"/>
            <a:ext cx="707760" cy="56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9" descr=""/>
          <p:cNvPicPr/>
          <p:nvPr/>
        </p:nvPicPr>
        <p:blipFill>
          <a:blip r:embed="rId10"/>
          <a:stretch/>
        </p:blipFill>
        <p:spPr>
          <a:xfrm>
            <a:off x="22305960" y="7794720"/>
            <a:ext cx="70632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0"/>
          <p:cNvSpPr/>
          <p:nvPr/>
        </p:nvSpPr>
        <p:spPr>
          <a:xfrm>
            <a:off x="5587920" y="558792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ll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38"/>
          <p:cNvSpPr/>
          <p:nvPr/>
        </p:nvSpPr>
        <p:spPr>
          <a:xfrm>
            <a:off x="9753480" y="5572080"/>
            <a:ext cx="36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ummer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9"/>
          <p:cNvSpPr/>
          <p:nvPr/>
        </p:nvSpPr>
        <p:spPr>
          <a:xfrm>
            <a:off x="16568640" y="550692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all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40"/>
          <p:cNvSpPr/>
          <p:nvPr/>
        </p:nvSpPr>
        <p:spPr>
          <a:xfrm>
            <a:off x="23037840" y="553896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ring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eft Bracket 44"/>
          <p:cNvSpPr/>
          <p:nvPr/>
        </p:nvSpPr>
        <p:spPr>
          <a:xfrm rot="5400000">
            <a:off x="18252360" y="5537880"/>
            <a:ext cx="171360" cy="2027520"/>
          </a:xfrm>
          <a:custGeom>
            <a:avLst/>
            <a:gdLst>
              <a:gd name="textAreaLeft" fmla="*/ 50400 w 171360"/>
              <a:gd name="textAreaRight" fmla="*/ 171720 w 171360"/>
              <a:gd name="textAreaTop" fmla="*/ 6840 h 2027520"/>
              <a:gd name="textAreaBottom" fmla="*/ 2020680 h 202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6"/>
                  <a:pt x="0" y="152"/>
                </a:cubicBezTo>
                <a:lnTo>
                  <a:pt x="0" y="21448"/>
                </a:lnTo>
                <a:cubicBezTo>
                  <a:pt x="0" y="21524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74"/>
          <p:cNvSpPr/>
          <p:nvPr/>
        </p:nvSpPr>
        <p:spPr>
          <a:xfrm>
            <a:off x="5683320" y="9555120"/>
            <a:ext cx="361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eukaryotic cell's DNA is housed in a nucleus. How is the information contained in the nucleus exported and used to guide a cell's activities?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3"/>
          <p:cNvSpPr/>
          <p:nvPr/>
        </p:nvSpPr>
        <p:spPr>
          <a:xfrm>
            <a:off x="9515520" y="9483840"/>
            <a:ext cx="105728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57b894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RNA is synthesized in the nucleus from a DNA templ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57b894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RNA is exported from the nucleus into the cytopla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/</a:t>
            </a:r>
            <a:r>
              <a:rPr b="1" lang="en-US" sz="2800" spc="-1" strike="noStrike">
                <a:solidFill>
                  <a:srgbClr val="57b894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ins are synthesized by ribosomes in the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an mRNA templ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57b894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F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ins are transported to the proper location in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their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11404440" y="19040400"/>
            <a:ext cx="793800" cy="2665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59"/>
          <p:cNvSpPr/>
          <p:nvPr/>
        </p:nvSpPr>
        <p:spPr>
          <a:xfrm>
            <a:off x="11404440" y="15486120"/>
            <a:ext cx="795600" cy="2562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095"/>
          <p:cNvSpPr/>
          <p:nvPr/>
        </p:nvSpPr>
        <p:spPr>
          <a:xfrm>
            <a:off x="20185200" y="10304640"/>
            <a:ext cx="682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is transcribed into mRNA and is transported out of the nucleus. When the new protein leaves the nucleus, it is sent to the cytosol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096"/>
          <p:cNvSpPr/>
          <p:nvPr/>
        </p:nvSpPr>
        <p:spPr>
          <a:xfrm>
            <a:off x="21158280" y="10410840"/>
            <a:ext cx="4773600" cy="349200"/>
          </a:xfrm>
          <a:prstGeom prst="rect">
            <a:avLst/>
          </a:prstGeom>
          <a:noFill/>
          <a:ln w="38160">
            <a:solidFill>
              <a:srgbClr val="57b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62"/>
          <p:cNvSpPr/>
          <p:nvPr/>
        </p:nvSpPr>
        <p:spPr>
          <a:xfrm>
            <a:off x="20459880" y="11207880"/>
            <a:ext cx="4987800" cy="452160"/>
          </a:xfrm>
          <a:prstGeom prst="rect">
            <a:avLst/>
          </a:prstGeom>
          <a:noFill/>
          <a:ln w="38160">
            <a:solidFill>
              <a:srgbClr val="849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4"/>
          <p:cNvSpPr/>
          <p:nvPr/>
        </p:nvSpPr>
        <p:spPr>
          <a:xfrm>
            <a:off x="20467800" y="10764720"/>
            <a:ext cx="4711680" cy="452520"/>
          </a:xfrm>
          <a:prstGeom prst="rect">
            <a:avLst/>
          </a:prstGeom>
          <a:noFill/>
          <a:ln w="38160">
            <a:solidFill>
              <a:srgbClr val="57b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100"/>
          <p:cNvSpPr/>
          <p:nvPr/>
        </p:nvSpPr>
        <p:spPr>
          <a:xfrm>
            <a:off x="24482520" y="9575640"/>
            <a:ext cx="22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1)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66"/>
          <p:cNvSpPr/>
          <p:nvPr/>
        </p:nvSpPr>
        <p:spPr>
          <a:xfrm>
            <a:off x="20113560" y="9620280"/>
            <a:ext cx="22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)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67"/>
          <p:cNvSpPr/>
          <p:nvPr/>
        </p:nvSpPr>
        <p:spPr>
          <a:xfrm>
            <a:off x="20377080" y="12436560"/>
            <a:ext cx="22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3) In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68"/>
          <p:cNvSpPr/>
          <p:nvPr/>
        </p:nvSpPr>
        <p:spPr>
          <a:xfrm>
            <a:off x="24069600" y="12474720"/>
            <a:ext cx="22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(4) Omit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4103"/>
          <p:cNvSpPr/>
          <p:nvPr/>
        </p:nvSpPr>
        <p:spPr>
          <a:xfrm flipH="1">
            <a:off x="23748840" y="9929880"/>
            <a:ext cx="741600" cy="2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173"/>
          <p:cNvSpPr/>
          <p:nvPr/>
        </p:nvSpPr>
        <p:spPr>
          <a:xfrm>
            <a:off x="20415240" y="10180800"/>
            <a:ext cx="209520" cy="46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125" descr=""/>
          <p:cNvPicPr/>
          <p:nvPr/>
        </p:nvPicPr>
        <p:blipFill>
          <a:blip r:embed="rId11"/>
          <a:stretch/>
        </p:blipFill>
        <p:spPr>
          <a:xfrm rot="19624800">
            <a:off x="20508840" y="11953440"/>
            <a:ext cx="852480" cy="4208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23037840" y="1805004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4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8"/>
          <p:cNvSpPr/>
          <p:nvPr/>
        </p:nvSpPr>
        <p:spPr>
          <a:xfrm>
            <a:off x="20686680" y="1957212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2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70"/>
          <p:cNvSpPr/>
          <p:nvPr/>
        </p:nvSpPr>
        <p:spPr>
          <a:xfrm>
            <a:off x="19705680" y="1612440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75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71"/>
          <p:cNvSpPr/>
          <p:nvPr/>
        </p:nvSpPr>
        <p:spPr>
          <a:xfrm>
            <a:off x="24060240" y="2070252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0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72"/>
          <p:cNvSpPr/>
          <p:nvPr/>
        </p:nvSpPr>
        <p:spPr>
          <a:xfrm>
            <a:off x="25072920" y="1802304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4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72"/>
          <p:cNvSpPr/>
          <p:nvPr/>
        </p:nvSpPr>
        <p:spPr>
          <a:xfrm>
            <a:off x="18372240" y="5970600"/>
            <a:ext cx="612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2"/>
          <a:stretch/>
        </p:blipFill>
        <p:spPr>
          <a:xfrm>
            <a:off x="10531440" y="6029280"/>
            <a:ext cx="2054160" cy="682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13"/>
          <a:stretch/>
        </p:blipFill>
        <p:spPr>
          <a:xfrm>
            <a:off x="6418440" y="6026040"/>
            <a:ext cx="2055600" cy="68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14"/>
          <a:stretch/>
        </p:blipFill>
        <p:spPr>
          <a:xfrm>
            <a:off x="23842800" y="6060960"/>
            <a:ext cx="2054160" cy="6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5:33:19Z</dcterms:created>
  <dc:creator>Jefferson Holland</dc:creator>
  <dc:description/>
  <dc:language>en-US</dc:language>
  <cp:lastModifiedBy>Paul Royster</cp:lastModifiedBy>
  <dcterms:modified xsi:type="dcterms:W3CDTF">2016-04-12T20:38:14Z</dcterms:modified>
  <cp:revision>165</cp:revision>
  <dc:subject/>
  <dc:title>PowerPoint Presentation</dc:title>
</cp:coreProperties>
</file>