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6576000" cy="4389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446800"/>
                <a:tab algn="l" pos="108936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446800"/>
                <a:tab algn="l" pos="10893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52720" y="696960"/>
            <a:ext cx="290520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r>
              <a:rPr b="0" lang="en-US" sz="26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446800"/>
                <a:tab algn="l" pos="108936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446800"/>
                <a:tab algn="l" pos="10893600"/>
              </a:tabLst>
            </a:pPr>
            <a:fld id="{252DDD53-E426-4E49-986C-4DE747C5916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052720" y="696960"/>
            <a:ext cx="2905200" cy="3486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14800"/>
                <a:tab algn="l" pos="10029960"/>
              </a:tabLst>
            </a:pPr>
            <a:fld id="{CEBA40ED-3CC6-43A9-BCBA-0BE5CF3B9C0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2B1-72FF-47B5-9EC1-8982A971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75752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10240920"/>
            <a:ext cx="3291840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25371000"/>
            <a:ext cx="3291840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AE8-2EB2-45C5-8CD1-AF2B15F5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75752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10240920"/>
            <a:ext cx="1606392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6240" y="10240920"/>
            <a:ext cx="1606392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25371000"/>
            <a:ext cx="1606392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6240" y="25371000"/>
            <a:ext cx="1606392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BAA-DCA0-4B8F-A9C7-A3AC2E9F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175752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0240920"/>
            <a:ext cx="1059948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8560" y="10240920"/>
            <a:ext cx="1059948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88320" y="10240920"/>
            <a:ext cx="1059948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25371000"/>
            <a:ext cx="1059948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8560" y="25371000"/>
            <a:ext cx="1059948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88320" y="25371000"/>
            <a:ext cx="1059948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660-F798-49F4-8A9B-7F8F7736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175752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10240920"/>
            <a:ext cx="32918400" cy="289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76"/>
              </a:spcBef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A6B0-5BC5-45DB-8177-F141C69D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75752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10240920"/>
            <a:ext cx="32918400" cy="2896704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BB5-35BE-420E-961D-05152215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75752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10240920"/>
            <a:ext cx="16063920" cy="2896704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6240" y="10240920"/>
            <a:ext cx="16063920" cy="2896704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953B-4E3E-4241-976B-F44A4612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175752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302E-78FF-4FDA-9EB8-3AB62B76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1757520"/>
            <a:ext cx="32918400" cy="33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76"/>
              </a:spcBef>
              <a:tabLst>
                <a:tab algn="l" pos="0"/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7FC2-12E2-497F-86FE-5B48601C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75752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0240920"/>
            <a:ext cx="1606392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6240" y="10240920"/>
            <a:ext cx="16063920" cy="2896704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25371000"/>
            <a:ext cx="1606392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BD3-04D1-47F2-B248-0081AAB4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75752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10240920"/>
            <a:ext cx="16063920" cy="2896704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6240" y="10240920"/>
            <a:ext cx="1606392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6240" y="25371000"/>
            <a:ext cx="1606392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F8E6-1AF1-4B9E-9708-204BA469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175752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10240920"/>
            <a:ext cx="1606392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6240" y="10240920"/>
            <a:ext cx="1606392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25371000"/>
            <a:ext cx="32918400" cy="138171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/>
          </a:bodyPr>
          <a:p>
            <a:pPr indent="0">
              <a:spcBef>
                <a:spcPts val="4776"/>
              </a:spcBef>
              <a:buNone/>
              <a:tabLst>
                <a:tab algn="l" pos="5446800"/>
                <a:tab algn="l" pos="10893600"/>
              </a:tabLst>
            </a:pP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96F-2C9B-4085-B776-DEAABF39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1757520"/>
            <a:ext cx="32918400" cy="731520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 algn="ctr">
              <a:buNone/>
              <a:tabLst>
                <a:tab algn="l" pos="0"/>
                <a:tab algn="l" pos="5446800"/>
                <a:tab algn="l" pos="10893600"/>
              </a:tabLst>
            </a:pPr>
            <a:r>
              <a:rPr b="0" lang="en-US" sz="2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0240920"/>
            <a:ext cx="32918400" cy="2896704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t">
            <a:normAutofit fontScale="95000"/>
          </a:bodyPr>
          <a:p>
            <a:pPr marL="1939320" indent="-1939320">
              <a:spcBef>
                <a:spcPts val="4776"/>
              </a:spcBef>
              <a:buClr>
                <a:srgbClr val="000000"/>
              </a:buClr>
              <a:buFont typeface="Arial"/>
              <a:buChar char="•"/>
              <a:tabLst>
                <a:tab algn="l" pos="5446800"/>
                <a:tab algn="l" pos="10893600"/>
              </a:tabLst>
            </a:pPr>
            <a:r>
              <a:rPr b="0" lang="en-US" sz="19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  <a:p>
            <a:pPr lvl="1" marL="4204440" indent="-1616400">
              <a:spcBef>
                <a:spcPts val="4776"/>
              </a:spcBef>
              <a:buClr>
                <a:srgbClr val="000000"/>
              </a:buClr>
              <a:buFont typeface="Arial"/>
              <a:buChar char="–"/>
              <a:tabLst>
                <a:tab algn="l" pos="5446800"/>
                <a:tab algn="l" pos="10893600"/>
              </a:tabLst>
            </a:pPr>
            <a:r>
              <a:rPr b="0" lang="en-US" sz="19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  <a:p>
            <a:pPr lvl="2" marL="6469920" indent="-1292400">
              <a:spcBef>
                <a:spcPts val="4776"/>
              </a:spcBef>
              <a:buClr>
                <a:srgbClr val="000000"/>
              </a:buClr>
              <a:buFont typeface="Arial"/>
              <a:buChar char="•"/>
              <a:tabLst>
                <a:tab algn="l" pos="5446800"/>
                <a:tab algn="l" pos="10893600"/>
              </a:tabLst>
            </a:pPr>
            <a:r>
              <a:rPr b="0" lang="en-US" sz="19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  <a:p>
            <a:pPr lvl="3" marL="9057600" indent="-1292400">
              <a:spcBef>
                <a:spcPts val="4776"/>
              </a:spcBef>
              <a:buClr>
                <a:srgbClr val="000000"/>
              </a:buClr>
              <a:buFont typeface="Arial"/>
              <a:buChar char="–"/>
              <a:tabLst>
                <a:tab algn="l" pos="5446800"/>
                <a:tab algn="l" pos="10893600"/>
              </a:tabLst>
            </a:pPr>
            <a:r>
              <a:rPr b="0" lang="en-US" sz="19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  <a:p>
            <a:pPr lvl="4" marL="11647080" indent="-1292400">
              <a:spcBef>
                <a:spcPts val="4776"/>
              </a:spcBef>
              <a:buClr>
                <a:srgbClr val="000000"/>
              </a:buClr>
              <a:buFont typeface="Arial"/>
              <a:buChar char="»"/>
              <a:tabLst>
                <a:tab algn="l" pos="5446800"/>
                <a:tab algn="l" pos="10893600"/>
              </a:tabLst>
            </a:pPr>
            <a:r>
              <a:rPr b="0" lang="en-US" sz="19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  <a:p>
            <a:pPr lvl="5" marL="11647080" indent="-1292400">
              <a:spcBef>
                <a:spcPts val="4776"/>
              </a:spcBef>
              <a:buClr>
                <a:srgbClr val="000000"/>
              </a:buClr>
              <a:buFont typeface="Arial"/>
              <a:buChar char="»"/>
              <a:tabLst>
                <a:tab algn="l" pos="5446800"/>
                <a:tab algn="l" pos="10893600"/>
              </a:tabLst>
            </a:pPr>
            <a:r>
              <a:rPr b="0" lang="en-US" sz="19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  <a:p>
            <a:pPr lvl="6" marL="11647080" indent="-1292400">
              <a:spcBef>
                <a:spcPts val="4776"/>
              </a:spcBef>
              <a:buClr>
                <a:srgbClr val="000000"/>
              </a:buClr>
              <a:buFont typeface="Arial"/>
              <a:buChar char="»"/>
              <a:tabLst>
                <a:tab algn="l" pos="5446800"/>
                <a:tab algn="l" pos="10893600"/>
              </a:tabLst>
            </a:pPr>
            <a:r>
              <a:rPr b="0" lang="en-US" sz="19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40681080"/>
            <a:ext cx="8534520" cy="23367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446800"/>
                <a:tab algn="l" pos="10893600"/>
              </a:tabLst>
              <a:defRPr b="0" lang="en-US" sz="7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446800"/>
                <a:tab algn="l" pos="10893600"/>
              </a:tabLst>
            </a:pPr>
            <a:r>
              <a:rPr b="0" lang="en-US" sz="7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6680" y="40681080"/>
            <a:ext cx="11582640" cy="23367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p>
            <a:pPr indent="0">
              <a:buNone/>
              <a:tabLst>
                <a:tab algn="l" pos="0"/>
                <a:tab algn="l" pos="5446800"/>
                <a:tab algn="l" pos="108936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12320" y="40681080"/>
            <a:ext cx="8534520" cy="2336760"/>
          </a:xfrm>
          <a:prstGeom prst="rect">
            <a:avLst/>
          </a:prstGeom>
          <a:noFill/>
          <a:ln w="0">
            <a:noFill/>
          </a:ln>
        </p:spPr>
        <p:txBody>
          <a:bodyPr lIns="545040" rIns="545040" tIns="272520" bIns="2725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446800"/>
                <a:tab algn="l" pos="10893600"/>
              </a:tabLst>
              <a:defRPr b="0" lang="en-US" sz="7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446800"/>
                <a:tab algn="l" pos="10893600"/>
              </a:tabLst>
            </a:pPr>
            <a:fld id="{AD6B51D0-6682-4905-B4F8-E3F474C488AB}" type="slidenum">
              <a:rPr b="0" lang="en-US" sz="7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3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3"/>
          <p:cNvSpPr/>
          <p:nvPr/>
        </p:nvSpPr>
        <p:spPr>
          <a:xfrm>
            <a:off x="0" y="565200"/>
            <a:ext cx="36576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5040" rIns="545040" tIns="272520" bIns="27252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Molecular Mechanisms of Goss’s Wil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446800"/>
                <a:tab algn="l" pos="108936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amuel Eastman</a:t>
            </a:r>
            <a:r>
              <a:rPr b="0" lang="en-US" sz="35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, Guangyong Li</a:t>
            </a:r>
            <a:r>
              <a:rPr b="0" lang="en-US" sz="3500" spc="-1" strike="noStrike" baseline="30000">
                <a:solidFill>
                  <a:srgbClr val="000000"/>
                </a:solidFill>
                <a:latin typeface="Calibri"/>
              </a:rPr>
              <a:t>2,3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, Fan Yang</a:t>
            </a:r>
            <a:r>
              <a:rPr b="0" lang="en-US" sz="3500" spc="-1" strike="noStrike" baseline="30000">
                <a:solidFill>
                  <a:srgbClr val="000000"/>
                </a:solidFill>
                <a:latin typeface="Calibri"/>
              </a:rPr>
              <a:t>2,3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, Josh Herr</a:t>
            </a:r>
            <a:r>
              <a:rPr b="0" lang="en-US" sz="3500" spc="-1" strike="noStrike" baseline="30000">
                <a:solidFill>
                  <a:srgbClr val="000000"/>
                </a:solidFill>
                <a:latin typeface="Calibri"/>
              </a:rPr>
              <a:t>2,3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and James R. Alfano</a:t>
            </a:r>
            <a:r>
              <a:rPr b="0" lang="en-US" sz="3500" spc="-1" strike="noStrike" baseline="30000">
                <a:solidFill>
                  <a:srgbClr val="000000"/>
                </a:solidFill>
                <a:latin typeface="Calibri"/>
              </a:rPr>
              <a:t>1,2,3</a:t>
            </a:r>
            <a:br>
              <a:rPr sz="1600"/>
            </a:b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 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L Undergraduate Microbiolog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er for Plant Science Innovation and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partment of Plant Pathology, University of Nebraska-Lincol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444"/>
          <p:cNvSpPr/>
          <p:nvPr/>
        </p:nvSpPr>
        <p:spPr>
          <a:xfrm>
            <a:off x="1009800" y="3819600"/>
            <a:ext cx="11034720" cy="52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vibacter michiganen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p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braskensis (Cm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athogen responsible for Goss’s Wilt in maize in the high plains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vibacter michiganen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sp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brasken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are virulent and non-virulent in maize have been isolated, but the mechanism of this differentiation is not understood. Investigation of the genetic differences between virulent and non-virulent strains is providing an explanation as to ho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m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disease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m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tants with reduced or removed virulence have been created using Tn5 transposon transformation to randomly knockout virulence factors. Potential effectors have also been identified in a genomic “virulence island” region by using bioinformatic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24855480" y="32580360"/>
            <a:ext cx="105789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e Knockout using Homologous Recomb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Homologous Recombination the virulence region described above and all the genes contained within will be knocked out all at once. A specially-prepared version of DNA with identical sequences from up- and down-stream of the virulence region will bind to the genomic DNA and replace the region with a selectable antibiotic mar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51"/>
          <p:cNvSpPr/>
          <p:nvPr/>
        </p:nvSpPr>
        <p:spPr>
          <a:xfrm>
            <a:off x="24855480" y="22480560"/>
            <a:ext cx="106156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verse Genetics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comparing the sequence of the virulent strain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m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other, avirulent strains, candidate genes for potential effectors were identified. The genes in green are located clustered together with a gene for a Phage integrase protein, suggesting a region of virulence genes (a “virulence island”), responsible for the acquisition of pathogenicity and Goss’s Wilt sympto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24855480" y="36288720"/>
            <a:ext cx="1080144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appreciate the help of Dr. Bob Harveson and Kathy Nielson for providing heirloom Golden Bantam maize seeds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m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ins from their collection, of Dr. Tamra Jackson for providing many base strains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m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her collection, and of Dr. Riekhof for assistance with molecular techniq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research was supported by a UCARE grant from the University of Nebraska-Lincol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2704760" y="40269960"/>
            <a:ext cx="1134576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ain-Specific Colony PC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including strain-specific primers in the PCR reaction, potentially avirulent strains were either identified as arising from the original transformed strain, or identified as a contaminan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19"/>
          <p:cNvSpPr/>
          <p:nvPr/>
        </p:nvSpPr>
        <p:spPr>
          <a:xfrm>
            <a:off x="12665160" y="31713480"/>
            <a:ext cx="1144260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avibacter Virulence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ulence readings on over 1000 randomly generated mutants were taken and recorded. Potentially avirulent strains are shown in green to show reduced or absent virulence in the pla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84"/>
          <p:cNvSpPr/>
          <p:nvPr/>
        </p:nvSpPr>
        <p:spPr>
          <a:xfrm>
            <a:off x="254160" y="195120"/>
            <a:ext cx="36118800" cy="43485120"/>
          </a:xfrm>
          <a:prstGeom prst="rect">
            <a:avLst/>
          </a:prstGeom>
          <a:noFill/>
          <a:ln w="507960">
            <a:solidFill>
              <a:srgbClr val="add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61"/>
          <p:cNvSpPr/>
          <p:nvPr/>
        </p:nvSpPr>
        <p:spPr>
          <a:xfrm>
            <a:off x="1009800" y="24300000"/>
            <a:ext cx="109058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oss’ Wilt Sympto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ss’s Wilt is a vascular pathogen that causes tissue necrosis parallel to leaf veins, with characteristic spots of bacterial exudate. Yield loss due to Goss’s Wilt can reach 50% in severely infected fields. Goss’s Wilt is historically a Nebraska pathogen but the range of disease increases during hot, dry yea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52"/>
          <p:cNvSpPr/>
          <p:nvPr/>
        </p:nvSpPr>
        <p:spPr>
          <a:xfrm>
            <a:off x="12704760" y="11566440"/>
            <a:ext cx="1074744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oculated corn symptom compari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everity of Goss’s Wilt symptoms was recorded in all inoculated plants. Transformed strains that caused significantly reduced or absent symptoms were flagged for analysis and further tes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1009800" y="40620960"/>
            <a:ext cx="1067436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boratory Set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ts were inoculated by dabbing bacterial solution on a leaf cut. They were then kept for 1 week in a growth chamber at 24 degrees 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IMG_9941.JPG"/>
          <p:cNvPicPr/>
          <p:nvPr/>
        </p:nvPicPr>
        <p:blipFill>
          <a:blip r:embed="rId1"/>
          <a:stretch/>
        </p:blipFill>
        <p:spPr>
          <a:xfrm>
            <a:off x="17442000" y="3470400"/>
            <a:ext cx="5054400" cy="759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Tn5-28.JPG"/>
          <p:cNvPicPr/>
          <p:nvPr/>
        </p:nvPicPr>
        <p:blipFill>
          <a:blip r:embed="rId2"/>
          <a:stretch/>
        </p:blipFill>
        <p:spPr>
          <a:xfrm>
            <a:off x="12395160" y="3470400"/>
            <a:ext cx="5064120" cy="759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03111443b.jpg"/>
          <p:cNvPicPr/>
          <p:nvPr/>
        </p:nvPicPr>
        <p:blipFill>
          <a:blip r:embed="rId3"/>
          <a:stretch/>
        </p:blipFill>
        <p:spPr>
          <a:xfrm>
            <a:off x="1886040" y="9429840"/>
            <a:ext cx="7920000" cy="10559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IMG_0024.jpg"/>
          <p:cNvPicPr/>
          <p:nvPr/>
        </p:nvPicPr>
        <p:blipFill>
          <a:blip r:embed="rId4"/>
          <a:stretch/>
        </p:blipFill>
        <p:spPr>
          <a:xfrm>
            <a:off x="1155600" y="27194040"/>
            <a:ext cx="10304640" cy="6870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IMG_0026.jpg"/>
          <p:cNvPicPr/>
          <p:nvPr/>
        </p:nvPicPr>
        <p:blipFill>
          <a:blip r:embed="rId5"/>
          <a:stretch/>
        </p:blipFill>
        <p:spPr>
          <a:xfrm>
            <a:off x="1469880" y="34101000"/>
            <a:ext cx="9698040" cy="6465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alfanolab 2016-03-21 14hr 02min.tif"/>
          <p:cNvPicPr/>
          <p:nvPr/>
        </p:nvPicPr>
        <p:blipFill>
          <a:blip r:embed="rId6"/>
          <a:stretch/>
        </p:blipFill>
        <p:spPr>
          <a:xfrm>
            <a:off x="14468400" y="34537680"/>
            <a:ext cx="7199280" cy="539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25192080" y="12184200"/>
          <a:ext cx="10105920" cy="9799560"/>
        </p:xfrm>
        <a:graphic>
          <a:graphicData uri="http://schemas.openxmlformats.org/drawingml/2006/table">
            <a:tbl>
              <a:tblPr/>
              <a:tblGrid>
                <a:gridCol w="1857240"/>
                <a:gridCol w="2408400"/>
                <a:gridCol w="2446200"/>
                <a:gridCol w="1005120"/>
                <a:gridCol w="1004760"/>
                <a:gridCol w="1384200"/>
              </a:tblGrid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.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ac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(bp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 Diff.(-73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009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01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fi-F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ROKKA_004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ge_integra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ge_integra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ROKKA_00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ROKKA_004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ROKKA_004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nb-N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de-DE" sz="11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ROKKA_004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nb-N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1195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13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14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suMI modification methylase subunit Y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tative BsuMI modification methylase subunit Y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nb-N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1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fi-F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150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nb-N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155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208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213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nb-N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22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nb-N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23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26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264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nb-N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265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nb-N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26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fi-F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26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is-I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nb-N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26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fi-F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KA_026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hetical pro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nb-N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2" descr="goss_wilt_map.jpg"/>
          <p:cNvPicPr/>
          <p:nvPr/>
        </p:nvPicPr>
        <p:blipFill>
          <a:blip r:embed="rId7"/>
          <a:stretch/>
        </p:blipFill>
        <p:spPr>
          <a:xfrm>
            <a:off x="4121280" y="17996040"/>
            <a:ext cx="7864200" cy="587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3515840" y="23677560"/>
          <a:ext cx="8926560" cy="7689960"/>
        </p:xfrm>
        <a:graphic>
          <a:graphicData uri="http://schemas.openxmlformats.org/drawingml/2006/table">
            <a:tbl>
              <a:tblPr/>
              <a:tblGrid>
                <a:gridCol w="1052640"/>
                <a:gridCol w="866880"/>
                <a:gridCol w="1968480"/>
                <a:gridCol w="1681200"/>
                <a:gridCol w="1170000"/>
                <a:gridCol w="1135080"/>
                <a:gridCol w="1052280"/>
              </a:tblGrid>
              <a:tr h="11224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ul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 Inocul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ant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hod of Inoc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C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0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9c0006"/>
                          </a:solidFill>
                          <a:latin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86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is-I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9c0006"/>
                          </a:solidFill>
                          <a:latin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is-I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9c0006"/>
                          </a:solidFill>
                          <a:latin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0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9c0006"/>
                          </a:solidFill>
                          <a:latin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86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9c0006"/>
                          </a:solidFill>
                          <a:latin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9c0006"/>
                          </a:solidFill>
                          <a:latin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08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9c0006"/>
                          </a:solidFill>
                          <a:latin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86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9c0006"/>
                          </a:solidFill>
                          <a:latin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efce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Box 1052"/>
          <p:cNvSpPr/>
          <p:nvPr/>
        </p:nvSpPr>
        <p:spPr>
          <a:xfrm>
            <a:off x="12619080" y="21610800"/>
            <a:ext cx="1074744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n5 Transposome Random Mutagene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transforming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m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a transposon carrying a selectable antibiotic-resistance gene, over a thousand random mutants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m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re created. The Tn5 transposon inserts randomly into the genome, breaking any gene in which it la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i_eztn5_transposome_process.png"/>
          <p:cNvPicPr/>
          <p:nvPr/>
        </p:nvPicPr>
        <p:blipFill>
          <a:blip r:embed="rId8"/>
          <a:stretch/>
        </p:blipFill>
        <p:spPr>
          <a:xfrm>
            <a:off x="13625640" y="13828680"/>
            <a:ext cx="8716680" cy="744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genetic-mutations-fig41.jpg"/>
          <p:cNvPicPr/>
          <p:nvPr/>
        </p:nvPicPr>
        <p:blipFill>
          <a:blip r:embed="rId9"/>
          <a:srcRect l="15315" t="0" r="13514" b="0"/>
          <a:stretch/>
        </p:blipFill>
        <p:spPr>
          <a:xfrm>
            <a:off x="25120440" y="25768440"/>
            <a:ext cx="10053720" cy="67561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6110000" y="352407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5"/>
          <p:cNvSpPr/>
          <p:nvPr/>
        </p:nvSpPr>
        <p:spPr>
          <a:xfrm>
            <a:off x="16678440" y="3524076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6"/>
          <p:cNvSpPr/>
          <p:nvPr/>
        </p:nvSpPr>
        <p:spPr>
          <a:xfrm>
            <a:off x="17276760" y="35245800"/>
            <a:ext cx="9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7"/>
          <p:cNvSpPr/>
          <p:nvPr/>
        </p:nvSpPr>
        <p:spPr>
          <a:xfrm>
            <a:off x="17868960" y="352458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8"/>
          <p:cNvSpPr/>
          <p:nvPr/>
        </p:nvSpPr>
        <p:spPr>
          <a:xfrm>
            <a:off x="18462600" y="35245800"/>
            <a:ext cx="9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9"/>
          <p:cNvSpPr/>
          <p:nvPr/>
        </p:nvSpPr>
        <p:spPr>
          <a:xfrm>
            <a:off x="19056240" y="3524580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0"/>
          <p:cNvSpPr/>
          <p:nvPr/>
        </p:nvSpPr>
        <p:spPr>
          <a:xfrm>
            <a:off x="19648440" y="35245800"/>
            <a:ext cx="9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501680" y="3014640"/>
          <a:ext cx="8926560" cy="7113600"/>
        </p:xfrm>
        <a:graphic>
          <a:graphicData uri="http://schemas.openxmlformats.org/drawingml/2006/table">
            <a:tbl>
              <a:tblPr/>
              <a:tblGrid>
                <a:gridCol w="1052280"/>
                <a:gridCol w="866880"/>
                <a:gridCol w="1968480"/>
                <a:gridCol w="1681200"/>
                <a:gridCol w="1170000"/>
                <a:gridCol w="1135080"/>
                <a:gridCol w="1052640"/>
              </a:tblGrid>
              <a:tr h="8082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ul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 Inocul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ant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hod of Inoc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of C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is-I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is-I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2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9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9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9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9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26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61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26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zTn5 Mutant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-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rloom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44824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Rectangle 1251"/>
          <p:cNvSpPr/>
          <p:nvPr/>
        </p:nvSpPr>
        <p:spPr>
          <a:xfrm>
            <a:off x="24914160" y="10613880"/>
            <a:ext cx="10615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virulent Mut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46800"/>
                <a:tab algn="l" pos="10893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 of almost 1200 Tn5 mutants, 12 showed no virulences on ma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03:35:38Z</dcterms:created>
  <dc:creator>Byeong-ryool Jeong</dc:creator>
  <dc:description/>
  <dc:language>en-US</dc:language>
  <cp:lastModifiedBy>Paul Royster</cp:lastModifiedBy>
  <dcterms:modified xsi:type="dcterms:W3CDTF">2016-04-12T19:33:15Z</dcterms:modified>
  <cp:revision>274</cp:revision>
  <dc:subject/>
  <dc:title>Slide 1</dc:title>
</cp:coreProperties>
</file>