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6576000" cy="438912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446800"/>
                <a:tab algn="l" pos="1089360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5446800"/>
                <a:tab algn="l" pos="10893600"/>
              </a:tabLst>
              <a:defRPr b="0" lang="en-US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5446800"/>
                <a:tab algn="l" pos="10893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052720" y="696960"/>
            <a:ext cx="290520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5446800"/>
                <a:tab algn="l" pos="10893600"/>
              </a:tabLst>
            </a:pPr>
            <a:r>
              <a:rPr b="0" lang="en-US" sz="262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2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5446800"/>
                <a:tab algn="l" pos="1089360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5446800"/>
                <a:tab algn="l" pos="10893600"/>
              </a:tabLst>
              <a:defRPr b="0" lang="en-US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5446800"/>
                <a:tab algn="l" pos="10893600"/>
              </a:tabLst>
            </a:pPr>
            <a:fld id="{0AD3717D-ED1A-413C-9F11-59FF35EED6A8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2052720" y="696960"/>
            <a:ext cx="2905200" cy="348624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5014800"/>
                <a:tab algn="l" pos="10029960"/>
              </a:tabLst>
            </a:pPr>
            <a:fld id="{FF27E090-B8FE-41A9-8357-6222FB34F722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B15DC-C9FC-4CAE-9452-21E243A0F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8800" y="1757520"/>
            <a:ext cx="32918400" cy="7315200"/>
          </a:xfrm>
          <a:prstGeom prst="rect">
            <a:avLst/>
          </a:prstGeom>
          <a:noFill/>
          <a:ln w="0">
            <a:noFill/>
          </a:ln>
        </p:spPr>
        <p:txBody>
          <a:bodyPr lIns="545040" rIns="545040" tIns="272520" bIns="272520" anchor="ctr">
            <a:noAutofit/>
          </a:bodyPr>
          <a:p>
            <a:pPr indent="0" algn="ctr">
              <a:buNone/>
              <a:tabLst>
                <a:tab algn="l" pos="0"/>
                <a:tab algn="l" pos="5446800"/>
                <a:tab algn="l" pos="10893600"/>
              </a:tabLst>
            </a:pPr>
            <a:endParaRPr b="0" lang="en-US" sz="2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8800" y="10240920"/>
            <a:ext cx="32918400" cy="13817160"/>
          </a:xfrm>
          <a:prstGeom prst="rect">
            <a:avLst/>
          </a:prstGeom>
          <a:noFill/>
          <a:ln w="0">
            <a:noFill/>
          </a:ln>
        </p:spPr>
        <p:txBody>
          <a:bodyPr lIns="545040" rIns="545040" tIns="272520" bIns="272520" anchor="t">
            <a:normAutofit/>
          </a:bodyPr>
          <a:p>
            <a:pPr indent="0">
              <a:spcBef>
                <a:spcPts val="4776"/>
              </a:spcBef>
              <a:buNone/>
              <a:tabLst>
                <a:tab algn="l" pos="5446800"/>
                <a:tab algn="l" pos="10893600"/>
              </a:tabLst>
            </a:pPr>
            <a:endParaRPr b="0" lang="en-US" sz="19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8800" y="25371000"/>
            <a:ext cx="32918400" cy="13817160"/>
          </a:xfrm>
          <a:prstGeom prst="rect">
            <a:avLst/>
          </a:prstGeom>
          <a:noFill/>
          <a:ln w="0">
            <a:noFill/>
          </a:ln>
        </p:spPr>
        <p:txBody>
          <a:bodyPr lIns="545040" rIns="545040" tIns="272520" bIns="272520" anchor="t">
            <a:normAutofit/>
          </a:bodyPr>
          <a:p>
            <a:pPr indent="0">
              <a:spcBef>
                <a:spcPts val="4776"/>
              </a:spcBef>
              <a:buNone/>
              <a:tabLst>
                <a:tab algn="l" pos="5446800"/>
                <a:tab algn="l" pos="10893600"/>
              </a:tabLst>
            </a:pPr>
            <a:endParaRPr b="0" lang="en-US" sz="19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3674F-8AAA-4AD6-ABA3-CA3149061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8800" y="1757520"/>
            <a:ext cx="32918400" cy="7315200"/>
          </a:xfrm>
          <a:prstGeom prst="rect">
            <a:avLst/>
          </a:prstGeom>
          <a:noFill/>
          <a:ln w="0">
            <a:noFill/>
          </a:ln>
        </p:spPr>
        <p:txBody>
          <a:bodyPr lIns="545040" rIns="545040" tIns="272520" bIns="272520" anchor="ctr">
            <a:noAutofit/>
          </a:bodyPr>
          <a:p>
            <a:pPr indent="0" algn="ctr">
              <a:buNone/>
              <a:tabLst>
                <a:tab algn="l" pos="0"/>
                <a:tab algn="l" pos="5446800"/>
                <a:tab algn="l" pos="10893600"/>
              </a:tabLst>
            </a:pPr>
            <a:endParaRPr b="0" lang="en-US" sz="2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8800" y="10240920"/>
            <a:ext cx="16063920" cy="13817160"/>
          </a:xfrm>
          <a:prstGeom prst="rect">
            <a:avLst/>
          </a:prstGeom>
          <a:noFill/>
          <a:ln w="0">
            <a:noFill/>
          </a:ln>
        </p:spPr>
        <p:txBody>
          <a:bodyPr lIns="545040" rIns="545040" tIns="272520" bIns="272520" anchor="t">
            <a:normAutofit/>
          </a:bodyPr>
          <a:p>
            <a:pPr indent="0">
              <a:spcBef>
                <a:spcPts val="4776"/>
              </a:spcBef>
              <a:buNone/>
              <a:tabLst>
                <a:tab algn="l" pos="5446800"/>
                <a:tab algn="l" pos="10893600"/>
              </a:tabLst>
            </a:pPr>
            <a:endParaRPr b="0" lang="en-US" sz="19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6240" y="10240920"/>
            <a:ext cx="16063920" cy="13817160"/>
          </a:xfrm>
          <a:prstGeom prst="rect">
            <a:avLst/>
          </a:prstGeom>
          <a:noFill/>
          <a:ln w="0">
            <a:noFill/>
          </a:ln>
        </p:spPr>
        <p:txBody>
          <a:bodyPr lIns="545040" rIns="545040" tIns="272520" bIns="272520" anchor="t">
            <a:normAutofit/>
          </a:bodyPr>
          <a:p>
            <a:pPr indent="0">
              <a:spcBef>
                <a:spcPts val="4776"/>
              </a:spcBef>
              <a:buNone/>
              <a:tabLst>
                <a:tab algn="l" pos="5446800"/>
                <a:tab algn="l" pos="10893600"/>
              </a:tabLst>
            </a:pPr>
            <a:endParaRPr b="0" lang="en-US" sz="19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8800" y="25371000"/>
            <a:ext cx="16063920" cy="13817160"/>
          </a:xfrm>
          <a:prstGeom prst="rect">
            <a:avLst/>
          </a:prstGeom>
          <a:noFill/>
          <a:ln w="0">
            <a:noFill/>
          </a:ln>
        </p:spPr>
        <p:txBody>
          <a:bodyPr lIns="545040" rIns="545040" tIns="272520" bIns="272520" anchor="t">
            <a:normAutofit/>
          </a:bodyPr>
          <a:p>
            <a:pPr indent="0">
              <a:spcBef>
                <a:spcPts val="4776"/>
              </a:spcBef>
              <a:buNone/>
              <a:tabLst>
                <a:tab algn="l" pos="5446800"/>
                <a:tab algn="l" pos="10893600"/>
              </a:tabLst>
            </a:pPr>
            <a:endParaRPr b="0" lang="en-US" sz="19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6240" y="25371000"/>
            <a:ext cx="16063920" cy="13817160"/>
          </a:xfrm>
          <a:prstGeom prst="rect">
            <a:avLst/>
          </a:prstGeom>
          <a:noFill/>
          <a:ln w="0">
            <a:noFill/>
          </a:ln>
        </p:spPr>
        <p:txBody>
          <a:bodyPr lIns="545040" rIns="545040" tIns="272520" bIns="272520" anchor="t">
            <a:normAutofit/>
          </a:bodyPr>
          <a:p>
            <a:pPr indent="0">
              <a:spcBef>
                <a:spcPts val="4776"/>
              </a:spcBef>
              <a:buNone/>
              <a:tabLst>
                <a:tab algn="l" pos="5446800"/>
                <a:tab algn="l" pos="10893600"/>
              </a:tabLst>
            </a:pPr>
            <a:endParaRPr b="0" lang="en-US" sz="19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9859C-ECD0-4C14-AEF2-7D512B73A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8800" y="1757520"/>
            <a:ext cx="32918400" cy="7315200"/>
          </a:xfrm>
          <a:prstGeom prst="rect">
            <a:avLst/>
          </a:prstGeom>
          <a:noFill/>
          <a:ln w="0">
            <a:noFill/>
          </a:ln>
        </p:spPr>
        <p:txBody>
          <a:bodyPr lIns="545040" rIns="545040" tIns="272520" bIns="272520" anchor="ctr">
            <a:noAutofit/>
          </a:bodyPr>
          <a:p>
            <a:pPr indent="0" algn="ctr">
              <a:buNone/>
              <a:tabLst>
                <a:tab algn="l" pos="0"/>
                <a:tab algn="l" pos="5446800"/>
                <a:tab algn="l" pos="10893600"/>
              </a:tabLst>
            </a:pPr>
            <a:endParaRPr b="0" lang="en-US" sz="2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8800" y="10240920"/>
            <a:ext cx="10599480" cy="13817160"/>
          </a:xfrm>
          <a:prstGeom prst="rect">
            <a:avLst/>
          </a:prstGeom>
          <a:noFill/>
          <a:ln w="0">
            <a:noFill/>
          </a:ln>
        </p:spPr>
        <p:txBody>
          <a:bodyPr lIns="545040" rIns="545040" tIns="272520" bIns="272520" anchor="t">
            <a:normAutofit/>
          </a:bodyPr>
          <a:p>
            <a:pPr indent="0">
              <a:spcBef>
                <a:spcPts val="4776"/>
              </a:spcBef>
              <a:buNone/>
              <a:tabLst>
                <a:tab algn="l" pos="5446800"/>
                <a:tab algn="l" pos="10893600"/>
              </a:tabLst>
            </a:pPr>
            <a:endParaRPr b="0" lang="en-US" sz="19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8560" y="10240920"/>
            <a:ext cx="10599480" cy="13817160"/>
          </a:xfrm>
          <a:prstGeom prst="rect">
            <a:avLst/>
          </a:prstGeom>
          <a:noFill/>
          <a:ln w="0">
            <a:noFill/>
          </a:ln>
        </p:spPr>
        <p:txBody>
          <a:bodyPr lIns="545040" rIns="545040" tIns="272520" bIns="272520" anchor="t">
            <a:normAutofit/>
          </a:bodyPr>
          <a:p>
            <a:pPr indent="0">
              <a:spcBef>
                <a:spcPts val="4776"/>
              </a:spcBef>
              <a:buNone/>
              <a:tabLst>
                <a:tab algn="l" pos="5446800"/>
                <a:tab algn="l" pos="10893600"/>
              </a:tabLst>
            </a:pPr>
            <a:endParaRPr b="0" lang="en-US" sz="19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88320" y="10240920"/>
            <a:ext cx="10599480" cy="13817160"/>
          </a:xfrm>
          <a:prstGeom prst="rect">
            <a:avLst/>
          </a:prstGeom>
          <a:noFill/>
          <a:ln w="0">
            <a:noFill/>
          </a:ln>
        </p:spPr>
        <p:txBody>
          <a:bodyPr lIns="545040" rIns="545040" tIns="272520" bIns="272520" anchor="t">
            <a:normAutofit/>
          </a:bodyPr>
          <a:p>
            <a:pPr indent="0">
              <a:spcBef>
                <a:spcPts val="4776"/>
              </a:spcBef>
              <a:buNone/>
              <a:tabLst>
                <a:tab algn="l" pos="5446800"/>
                <a:tab algn="l" pos="10893600"/>
              </a:tabLst>
            </a:pPr>
            <a:endParaRPr b="0" lang="en-US" sz="19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8800" y="25371000"/>
            <a:ext cx="10599480" cy="13817160"/>
          </a:xfrm>
          <a:prstGeom prst="rect">
            <a:avLst/>
          </a:prstGeom>
          <a:noFill/>
          <a:ln w="0">
            <a:noFill/>
          </a:ln>
        </p:spPr>
        <p:txBody>
          <a:bodyPr lIns="545040" rIns="545040" tIns="272520" bIns="272520" anchor="t">
            <a:normAutofit/>
          </a:bodyPr>
          <a:p>
            <a:pPr indent="0">
              <a:spcBef>
                <a:spcPts val="4776"/>
              </a:spcBef>
              <a:buNone/>
              <a:tabLst>
                <a:tab algn="l" pos="5446800"/>
                <a:tab algn="l" pos="10893600"/>
              </a:tabLst>
            </a:pPr>
            <a:endParaRPr b="0" lang="en-US" sz="19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8560" y="25371000"/>
            <a:ext cx="10599480" cy="13817160"/>
          </a:xfrm>
          <a:prstGeom prst="rect">
            <a:avLst/>
          </a:prstGeom>
          <a:noFill/>
          <a:ln w="0">
            <a:noFill/>
          </a:ln>
        </p:spPr>
        <p:txBody>
          <a:bodyPr lIns="545040" rIns="545040" tIns="272520" bIns="272520" anchor="t">
            <a:normAutofit/>
          </a:bodyPr>
          <a:p>
            <a:pPr indent="0">
              <a:spcBef>
                <a:spcPts val="4776"/>
              </a:spcBef>
              <a:buNone/>
              <a:tabLst>
                <a:tab algn="l" pos="5446800"/>
                <a:tab algn="l" pos="10893600"/>
              </a:tabLst>
            </a:pPr>
            <a:endParaRPr b="0" lang="en-US" sz="19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88320" y="25371000"/>
            <a:ext cx="10599480" cy="13817160"/>
          </a:xfrm>
          <a:prstGeom prst="rect">
            <a:avLst/>
          </a:prstGeom>
          <a:noFill/>
          <a:ln w="0">
            <a:noFill/>
          </a:ln>
        </p:spPr>
        <p:txBody>
          <a:bodyPr lIns="545040" rIns="545040" tIns="272520" bIns="272520" anchor="t">
            <a:normAutofit/>
          </a:bodyPr>
          <a:p>
            <a:pPr indent="0">
              <a:spcBef>
                <a:spcPts val="4776"/>
              </a:spcBef>
              <a:buNone/>
              <a:tabLst>
                <a:tab algn="l" pos="5446800"/>
                <a:tab algn="l" pos="10893600"/>
              </a:tabLst>
            </a:pPr>
            <a:endParaRPr b="0" lang="en-US" sz="19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7A677-827C-4513-9167-27C2BF986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8800" y="1757520"/>
            <a:ext cx="32918400" cy="7315200"/>
          </a:xfrm>
          <a:prstGeom prst="rect">
            <a:avLst/>
          </a:prstGeom>
          <a:noFill/>
          <a:ln w="0">
            <a:noFill/>
          </a:ln>
        </p:spPr>
        <p:txBody>
          <a:bodyPr lIns="545040" rIns="545040" tIns="272520" bIns="272520" anchor="ctr">
            <a:noAutofit/>
          </a:bodyPr>
          <a:p>
            <a:pPr indent="0" algn="ctr">
              <a:buNone/>
              <a:tabLst>
                <a:tab algn="l" pos="0"/>
                <a:tab algn="l" pos="5446800"/>
                <a:tab algn="l" pos="10893600"/>
              </a:tabLst>
            </a:pPr>
            <a:endParaRPr b="0" lang="en-US" sz="2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8800" y="10240920"/>
            <a:ext cx="32918400" cy="289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76"/>
              </a:spcBef>
              <a:buNone/>
              <a:tabLst>
                <a:tab algn="l" pos="0"/>
                <a:tab algn="l" pos="5446800"/>
                <a:tab algn="l" pos="10893600"/>
              </a:tabLst>
            </a:pPr>
            <a:endParaRPr b="0" lang="en-US" sz="19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52694-492E-4C03-B3B1-E4D55386A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8800" y="1757520"/>
            <a:ext cx="32918400" cy="7315200"/>
          </a:xfrm>
          <a:prstGeom prst="rect">
            <a:avLst/>
          </a:prstGeom>
          <a:noFill/>
          <a:ln w="0">
            <a:noFill/>
          </a:ln>
        </p:spPr>
        <p:txBody>
          <a:bodyPr lIns="545040" rIns="545040" tIns="272520" bIns="272520" anchor="ctr">
            <a:noAutofit/>
          </a:bodyPr>
          <a:p>
            <a:pPr indent="0" algn="ctr">
              <a:buNone/>
              <a:tabLst>
                <a:tab algn="l" pos="0"/>
                <a:tab algn="l" pos="5446800"/>
                <a:tab algn="l" pos="10893600"/>
              </a:tabLst>
            </a:pPr>
            <a:endParaRPr b="0" lang="en-US" sz="2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8800" y="10240920"/>
            <a:ext cx="32918400" cy="28967040"/>
          </a:xfrm>
          <a:prstGeom prst="rect">
            <a:avLst/>
          </a:prstGeom>
          <a:noFill/>
          <a:ln w="0">
            <a:noFill/>
          </a:ln>
        </p:spPr>
        <p:txBody>
          <a:bodyPr lIns="545040" rIns="545040" tIns="272520" bIns="272520" anchor="t">
            <a:normAutofit/>
          </a:bodyPr>
          <a:p>
            <a:pPr indent="0">
              <a:spcBef>
                <a:spcPts val="4776"/>
              </a:spcBef>
              <a:buNone/>
              <a:tabLst>
                <a:tab algn="l" pos="5446800"/>
                <a:tab algn="l" pos="10893600"/>
              </a:tabLst>
            </a:pPr>
            <a:endParaRPr b="0" lang="en-US" sz="19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2F6E5-F143-4169-BB2F-E39A37715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8800" y="1757520"/>
            <a:ext cx="32918400" cy="7315200"/>
          </a:xfrm>
          <a:prstGeom prst="rect">
            <a:avLst/>
          </a:prstGeom>
          <a:noFill/>
          <a:ln w="0">
            <a:noFill/>
          </a:ln>
        </p:spPr>
        <p:txBody>
          <a:bodyPr lIns="545040" rIns="545040" tIns="272520" bIns="272520" anchor="ctr">
            <a:noAutofit/>
          </a:bodyPr>
          <a:p>
            <a:pPr indent="0" algn="ctr">
              <a:buNone/>
              <a:tabLst>
                <a:tab algn="l" pos="0"/>
                <a:tab algn="l" pos="5446800"/>
                <a:tab algn="l" pos="10893600"/>
              </a:tabLst>
            </a:pPr>
            <a:endParaRPr b="0" lang="en-US" sz="2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8800" y="10240920"/>
            <a:ext cx="16063920" cy="28967040"/>
          </a:xfrm>
          <a:prstGeom prst="rect">
            <a:avLst/>
          </a:prstGeom>
          <a:noFill/>
          <a:ln w="0">
            <a:noFill/>
          </a:ln>
        </p:spPr>
        <p:txBody>
          <a:bodyPr lIns="545040" rIns="545040" tIns="272520" bIns="272520" anchor="t">
            <a:normAutofit/>
          </a:bodyPr>
          <a:p>
            <a:pPr indent="0">
              <a:spcBef>
                <a:spcPts val="4776"/>
              </a:spcBef>
              <a:buNone/>
              <a:tabLst>
                <a:tab algn="l" pos="5446800"/>
                <a:tab algn="l" pos="10893600"/>
              </a:tabLst>
            </a:pPr>
            <a:endParaRPr b="0" lang="en-US" sz="19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6240" y="10240920"/>
            <a:ext cx="16063920" cy="28967040"/>
          </a:xfrm>
          <a:prstGeom prst="rect">
            <a:avLst/>
          </a:prstGeom>
          <a:noFill/>
          <a:ln w="0">
            <a:noFill/>
          </a:ln>
        </p:spPr>
        <p:txBody>
          <a:bodyPr lIns="545040" rIns="545040" tIns="272520" bIns="272520" anchor="t">
            <a:normAutofit/>
          </a:bodyPr>
          <a:p>
            <a:pPr indent="0">
              <a:spcBef>
                <a:spcPts val="4776"/>
              </a:spcBef>
              <a:buNone/>
              <a:tabLst>
                <a:tab algn="l" pos="5446800"/>
                <a:tab algn="l" pos="10893600"/>
              </a:tabLst>
            </a:pPr>
            <a:endParaRPr b="0" lang="en-US" sz="19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8878B-D353-4530-BCAF-6A70C808E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8800" y="1757520"/>
            <a:ext cx="32918400" cy="7315200"/>
          </a:xfrm>
          <a:prstGeom prst="rect">
            <a:avLst/>
          </a:prstGeom>
          <a:noFill/>
          <a:ln w="0">
            <a:noFill/>
          </a:ln>
        </p:spPr>
        <p:txBody>
          <a:bodyPr lIns="545040" rIns="545040" tIns="272520" bIns="272520" anchor="ctr">
            <a:noAutofit/>
          </a:bodyPr>
          <a:p>
            <a:pPr indent="0" algn="ctr">
              <a:buNone/>
              <a:tabLst>
                <a:tab algn="l" pos="0"/>
                <a:tab algn="l" pos="5446800"/>
                <a:tab algn="l" pos="10893600"/>
              </a:tabLst>
            </a:pPr>
            <a:endParaRPr b="0" lang="en-US" sz="2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C9607-E7C1-4359-9C58-AC3E4D268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8800" y="1757520"/>
            <a:ext cx="32918400" cy="339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76"/>
              </a:spcBef>
              <a:tabLst>
                <a:tab algn="l" pos="0"/>
                <a:tab algn="l" pos="5446800"/>
                <a:tab algn="l" pos="10893600"/>
              </a:tabLst>
            </a:pPr>
            <a:endParaRPr b="0" lang="en-US" sz="19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2CDE3-18F1-448A-B483-3D65D5C40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8800" y="1757520"/>
            <a:ext cx="32918400" cy="7315200"/>
          </a:xfrm>
          <a:prstGeom prst="rect">
            <a:avLst/>
          </a:prstGeom>
          <a:noFill/>
          <a:ln w="0">
            <a:noFill/>
          </a:ln>
        </p:spPr>
        <p:txBody>
          <a:bodyPr lIns="545040" rIns="545040" tIns="272520" bIns="272520" anchor="ctr">
            <a:noAutofit/>
          </a:bodyPr>
          <a:p>
            <a:pPr indent="0" algn="ctr">
              <a:buNone/>
              <a:tabLst>
                <a:tab algn="l" pos="0"/>
                <a:tab algn="l" pos="5446800"/>
                <a:tab algn="l" pos="10893600"/>
              </a:tabLst>
            </a:pPr>
            <a:endParaRPr b="0" lang="en-US" sz="2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8800" y="10240920"/>
            <a:ext cx="16063920" cy="13817160"/>
          </a:xfrm>
          <a:prstGeom prst="rect">
            <a:avLst/>
          </a:prstGeom>
          <a:noFill/>
          <a:ln w="0">
            <a:noFill/>
          </a:ln>
        </p:spPr>
        <p:txBody>
          <a:bodyPr lIns="545040" rIns="545040" tIns="272520" bIns="272520" anchor="t">
            <a:normAutofit/>
          </a:bodyPr>
          <a:p>
            <a:pPr indent="0">
              <a:spcBef>
                <a:spcPts val="4776"/>
              </a:spcBef>
              <a:buNone/>
              <a:tabLst>
                <a:tab algn="l" pos="5446800"/>
                <a:tab algn="l" pos="10893600"/>
              </a:tabLst>
            </a:pPr>
            <a:endParaRPr b="0" lang="en-US" sz="19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6240" y="10240920"/>
            <a:ext cx="16063920" cy="28967040"/>
          </a:xfrm>
          <a:prstGeom prst="rect">
            <a:avLst/>
          </a:prstGeom>
          <a:noFill/>
          <a:ln w="0">
            <a:noFill/>
          </a:ln>
        </p:spPr>
        <p:txBody>
          <a:bodyPr lIns="545040" rIns="545040" tIns="272520" bIns="272520" anchor="t">
            <a:normAutofit/>
          </a:bodyPr>
          <a:p>
            <a:pPr indent="0">
              <a:spcBef>
                <a:spcPts val="4776"/>
              </a:spcBef>
              <a:buNone/>
              <a:tabLst>
                <a:tab algn="l" pos="5446800"/>
                <a:tab algn="l" pos="10893600"/>
              </a:tabLst>
            </a:pPr>
            <a:endParaRPr b="0" lang="en-US" sz="19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8800" y="25371000"/>
            <a:ext cx="16063920" cy="13817160"/>
          </a:xfrm>
          <a:prstGeom prst="rect">
            <a:avLst/>
          </a:prstGeom>
          <a:noFill/>
          <a:ln w="0">
            <a:noFill/>
          </a:ln>
        </p:spPr>
        <p:txBody>
          <a:bodyPr lIns="545040" rIns="545040" tIns="272520" bIns="272520" anchor="t">
            <a:normAutofit/>
          </a:bodyPr>
          <a:p>
            <a:pPr indent="0">
              <a:spcBef>
                <a:spcPts val="4776"/>
              </a:spcBef>
              <a:buNone/>
              <a:tabLst>
                <a:tab algn="l" pos="5446800"/>
                <a:tab algn="l" pos="10893600"/>
              </a:tabLst>
            </a:pPr>
            <a:endParaRPr b="0" lang="en-US" sz="19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8353B-A1CC-43D2-884B-D99193A1E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8800" y="1757520"/>
            <a:ext cx="32918400" cy="7315200"/>
          </a:xfrm>
          <a:prstGeom prst="rect">
            <a:avLst/>
          </a:prstGeom>
          <a:noFill/>
          <a:ln w="0">
            <a:noFill/>
          </a:ln>
        </p:spPr>
        <p:txBody>
          <a:bodyPr lIns="545040" rIns="545040" tIns="272520" bIns="272520" anchor="ctr">
            <a:noAutofit/>
          </a:bodyPr>
          <a:p>
            <a:pPr indent="0" algn="ctr">
              <a:buNone/>
              <a:tabLst>
                <a:tab algn="l" pos="0"/>
                <a:tab algn="l" pos="5446800"/>
                <a:tab algn="l" pos="10893600"/>
              </a:tabLst>
            </a:pPr>
            <a:endParaRPr b="0" lang="en-US" sz="2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8800" y="10240920"/>
            <a:ext cx="16063920" cy="28967040"/>
          </a:xfrm>
          <a:prstGeom prst="rect">
            <a:avLst/>
          </a:prstGeom>
          <a:noFill/>
          <a:ln w="0">
            <a:noFill/>
          </a:ln>
        </p:spPr>
        <p:txBody>
          <a:bodyPr lIns="545040" rIns="545040" tIns="272520" bIns="272520" anchor="t">
            <a:normAutofit/>
          </a:bodyPr>
          <a:p>
            <a:pPr indent="0">
              <a:spcBef>
                <a:spcPts val="4776"/>
              </a:spcBef>
              <a:buNone/>
              <a:tabLst>
                <a:tab algn="l" pos="5446800"/>
                <a:tab algn="l" pos="10893600"/>
              </a:tabLst>
            </a:pPr>
            <a:endParaRPr b="0" lang="en-US" sz="19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6240" y="10240920"/>
            <a:ext cx="16063920" cy="13817160"/>
          </a:xfrm>
          <a:prstGeom prst="rect">
            <a:avLst/>
          </a:prstGeom>
          <a:noFill/>
          <a:ln w="0">
            <a:noFill/>
          </a:ln>
        </p:spPr>
        <p:txBody>
          <a:bodyPr lIns="545040" rIns="545040" tIns="272520" bIns="272520" anchor="t">
            <a:normAutofit/>
          </a:bodyPr>
          <a:p>
            <a:pPr indent="0">
              <a:spcBef>
                <a:spcPts val="4776"/>
              </a:spcBef>
              <a:buNone/>
              <a:tabLst>
                <a:tab algn="l" pos="5446800"/>
                <a:tab algn="l" pos="10893600"/>
              </a:tabLst>
            </a:pPr>
            <a:endParaRPr b="0" lang="en-US" sz="19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6240" y="25371000"/>
            <a:ext cx="16063920" cy="13817160"/>
          </a:xfrm>
          <a:prstGeom prst="rect">
            <a:avLst/>
          </a:prstGeom>
          <a:noFill/>
          <a:ln w="0">
            <a:noFill/>
          </a:ln>
        </p:spPr>
        <p:txBody>
          <a:bodyPr lIns="545040" rIns="545040" tIns="272520" bIns="272520" anchor="t">
            <a:normAutofit/>
          </a:bodyPr>
          <a:p>
            <a:pPr indent="0">
              <a:spcBef>
                <a:spcPts val="4776"/>
              </a:spcBef>
              <a:buNone/>
              <a:tabLst>
                <a:tab algn="l" pos="5446800"/>
                <a:tab algn="l" pos="10893600"/>
              </a:tabLst>
            </a:pPr>
            <a:endParaRPr b="0" lang="en-US" sz="19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468B9-A21B-46D0-ADD3-7689DC1AF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8800" y="1757520"/>
            <a:ext cx="32918400" cy="7315200"/>
          </a:xfrm>
          <a:prstGeom prst="rect">
            <a:avLst/>
          </a:prstGeom>
          <a:noFill/>
          <a:ln w="0">
            <a:noFill/>
          </a:ln>
        </p:spPr>
        <p:txBody>
          <a:bodyPr lIns="545040" rIns="545040" tIns="272520" bIns="272520" anchor="ctr">
            <a:noAutofit/>
          </a:bodyPr>
          <a:p>
            <a:pPr indent="0" algn="ctr">
              <a:buNone/>
              <a:tabLst>
                <a:tab algn="l" pos="0"/>
                <a:tab algn="l" pos="5446800"/>
                <a:tab algn="l" pos="10893600"/>
              </a:tabLst>
            </a:pPr>
            <a:endParaRPr b="0" lang="en-US" sz="2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8800" y="10240920"/>
            <a:ext cx="16063920" cy="13817160"/>
          </a:xfrm>
          <a:prstGeom prst="rect">
            <a:avLst/>
          </a:prstGeom>
          <a:noFill/>
          <a:ln w="0">
            <a:noFill/>
          </a:ln>
        </p:spPr>
        <p:txBody>
          <a:bodyPr lIns="545040" rIns="545040" tIns="272520" bIns="272520" anchor="t">
            <a:normAutofit/>
          </a:bodyPr>
          <a:p>
            <a:pPr indent="0">
              <a:spcBef>
                <a:spcPts val="4776"/>
              </a:spcBef>
              <a:buNone/>
              <a:tabLst>
                <a:tab algn="l" pos="5446800"/>
                <a:tab algn="l" pos="10893600"/>
              </a:tabLst>
            </a:pPr>
            <a:endParaRPr b="0" lang="en-US" sz="19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6240" y="10240920"/>
            <a:ext cx="16063920" cy="13817160"/>
          </a:xfrm>
          <a:prstGeom prst="rect">
            <a:avLst/>
          </a:prstGeom>
          <a:noFill/>
          <a:ln w="0">
            <a:noFill/>
          </a:ln>
        </p:spPr>
        <p:txBody>
          <a:bodyPr lIns="545040" rIns="545040" tIns="272520" bIns="272520" anchor="t">
            <a:normAutofit/>
          </a:bodyPr>
          <a:p>
            <a:pPr indent="0">
              <a:spcBef>
                <a:spcPts val="4776"/>
              </a:spcBef>
              <a:buNone/>
              <a:tabLst>
                <a:tab algn="l" pos="5446800"/>
                <a:tab algn="l" pos="10893600"/>
              </a:tabLst>
            </a:pPr>
            <a:endParaRPr b="0" lang="en-US" sz="19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8800" y="25371000"/>
            <a:ext cx="32918400" cy="13817160"/>
          </a:xfrm>
          <a:prstGeom prst="rect">
            <a:avLst/>
          </a:prstGeom>
          <a:noFill/>
          <a:ln w="0">
            <a:noFill/>
          </a:ln>
        </p:spPr>
        <p:txBody>
          <a:bodyPr lIns="545040" rIns="545040" tIns="272520" bIns="272520" anchor="t">
            <a:normAutofit/>
          </a:bodyPr>
          <a:p>
            <a:pPr indent="0">
              <a:spcBef>
                <a:spcPts val="4776"/>
              </a:spcBef>
              <a:buNone/>
              <a:tabLst>
                <a:tab algn="l" pos="5446800"/>
                <a:tab algn="l" pos="10893600"/>
              </a:tabLst>
            </a:pPr>
            <a:endParaRPr b="0" lang="en-US" sz="19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C8966-5A5E-4612-AC36-5C6BF711D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8800" y="1757520"/>
            <a:ext cx="32918400" cy="7315200"/>
          </a:xfrm>
          <a:prstGeom prst="rect">
            <a:avLst/>
          </a:prstGeom>
          <a:noFill/>
          <a:ln w="0">
            <a:noFill/>
          </a:ln>
        </p:spPr>
        <p:txBody>
          <a:bodyPr lIns="545040" rIns="545040" tIns="272520" bIns="272520" anchor="ctr">
            <a:noAutofit/>
          </a:bodyPr>
          <a:p>
            <a:pPr indent="0" algn="ctr">
              <a:buNone/>
              <a:tabLst>
                <a:tab algn="l" pos="0"/>
                <a:tab algn="l" pos="5446800"/>
                <a:tab algn="l" pos="10893600"/>
              </a:tabLst>
            </a:pPr>
            <a:r>
              <a:rPr b="0" lang="en-US" sz="26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2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8800" y="10240920"/>
            <a:ext cx="32918400" cy="28967040"/>
          </a:xfrm>
          <a:prstGeom prst="rect">
            <a:avLst/>
          </a:prstGeom>
          <a:noFill/>
          <a:ln w="0">
            <a:noFill/>
          </a:ln>
        </p:spPr>
        <p:txBody>
          <a:bodyPr lIns="545040" rIns="545040" tIns="272520" bIns="272520" anchor="t">
            <a:normAutofit fontScale="95000"/>
          </a:bodyPr>
          <a:p>
            <a:pPr marL="1939320" indent="-1939320">
              <a:spcBef>
                <a:spcPts val="4776"/>
              </a:spcBef>
              <a:buClr>
                <a:srgbClr val="000000"/>
              </a:buClr>
              <a:buFont typeface="Arial"/>
              <a:buChar char="•"/>
              <a:tabLst>
                <a:tab algn="l" pos="5446800"/>
                <a:tab algn="l" pos="10893600"/>
              </a:tabLst>
            </a:pPr>
            <a:r>
              <a:rPr b="0" lang="en-US" sz="19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9100" spc="-1" strike="noStrike">
              <a:solidFill>
                <a:srgbClr val="000000"/>
              </a:solidFill>
              <a:latin typeface="Calibri"/>
            </a:endParaRPr>
          </a:p>
          <a:p>
            <a:pPr lvl="1" marL="4204440" indent="-1616400">
              <a:spcBef>
                <a:spcPts val="4776"/>
              </a:spcBef>
              <a:buClr>
                <a:srgbClr val="000000"/>
              </a:buClr>
              <a:buFont typeface="Arial"/>
              <a:buChar char="–"/>
              <a:tabLst>
                <a:tab algn="l" pos="5446800"/>
                <a:tab algn="l" pos="10893600"/>
              </a:tabLst>
            </a:pPr>
            <a:r>
              <a:rPr b="0" lang="en-US" sz="19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9100" spc="-1" strike="noStrike">
              <a:solidFill>
                <a:srgbClr val="000000"/>
              </a:solidFill>
              <a:latin typeface="Calibri"/>
            </a:endParaRPr>
          </a:p>
          <a:p>
            <a:pPr lvl="2" marL="6469920" indent="-1292400">
              <a:spcBef>
                <a:spcPts val="4776"/>
              </a:spcBef>
              <a:buClr>
                <a:srgbClr val="000000"/>
              </a:buClr>
              <a:buFont typeface="Arial"/>
              <a:buChar char="•"/>
              <a:tabLst>
                <a:tab algn="l" pos="5446800"/>
                <a:tab algn="l" pos="10893600"/>
              </a:tabLst>
            </a:pPr>
            <a:r>
              <a:rPr b="0" lang="en-US" sz="19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9100" spc="-1" strike="noStrike">
              <a:solidFill>
                <a:srgbClr val="000000"/>
              </a:solidFill>
              <a:latin typeface="Calibri"/>
            </a:endParaRPr>
          </a:p>
          <a:p>
            <a:pPr lvl="3" marL="9057600" indent="-1292400">
              <a:spcBef>
                <a:spcPts val="4776"/>
              </a:spcBef>
              <a:buClr>
                <a:srgbClr val="000000"/>
              </a:buClr>
              <a:buFont typeface="Arial"/>
              <a:buChar char="–"/>
              <a:tabLst>
                <a:tab algn="l" pos="5446800"/>
                <a:tab algn="l" pos="10893600"/>
              </a:tabLst>
            </a:pPr>
            <a:r>
              <a:rPr b="0" lang="en-US" sz="19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9100" spc="-1" strike="noStrike">
              <a:solidFill>
                <a:srgbClr val="000000"/>
              </a:solidFill>
              <a:latin typeface="Calibri"/>
            </a:endParaRPr>
          </a:p>
          <a:p>
            <a:pPr lvl="4" marL="11647080" indent="-1292400">
              <a:spcBef>
                <a:spcPts val="4776"/>
              </a:spcBef>
              <a:buClr>
                <a:srgbClr val="000000"/>
              </a:buClr>
              <a:buFont typeface="Arial"/>
              <a:buChar char="»"/>
              <a:tabLst>
                <a:tab algn="l" pos="5446800"/>
                <a:tab algn="l" pos="10893600"/>
              </a:tabLst>
            </a:pPr>
            <a:r>
              <a:rPr b="0" lang="en-US" sz="19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9100" spc="-1" strike="noStrike">
              <a:solidFill>
                <a:srgbClr val="000000"/>
              </a:solidFill>
              <a:latin typeface="Calibri"/>
            </a:endParaRPr>
          </a:p>
          <a:p>
            <a:pPr lvl="5" marL="11647080" indent="-1292400">
              <a:spcBef>
                <a:spcPts val="4776"/>
              </a:spcBef>
              <a:buClr>
                <a:srgbClr val="000000"/>
              </a:buClr>
              <a:buFont typeface="Arial"/>
              <a:buChar char="»"/>
              <a:tabLst>
                <a:tab algn="l" pos="5446800"/>
                <a:tab algn="l" pos="10893600"/>
              </a:tabLst>
            </a:pPr>
            <a:r>
              <a:rPr b="0" lang="en-US" sz="19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9100" spc="-1" strike="noStrike">
              <a:solidFill>
                <a:srgbClr val="000000"/>
              </a:solidFill>
              <a:latin typeface="Calibri"/>
            </a:endParaRPr>
          </a:p>
          <a:p>
            <a:pPr lvl="6" marL="11647080" indent="-1292400">
              <a:spcBef>
                <a:spcPts val="4776"/>
              </a:spcBef>
              <a:buClr>
                <a:srgbClr val="000000"/>
              </a:buClr>
              <a:buFont typeface="Arial"/>
              <a:buChar char="»"/>
              <a:tabLst>
                <a:tab algn="l" pos="5446800"/>
                <a:tab algn="l" pos="10893600"/>
              </a:tabLst>
            </a:pPr>
            <a:r>
              <a:rPr b="0" lang="en-US" sz="19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9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8440" y="40681080"/>
            <a:ext cx="8534520" cy="2336760"/>
          </a:xfrm>
          <a:prstGeom prst="rect">
            <a:avLst/>
          </a:prstGeom>
          <a:noFill/>
          <a:ln w="0">
            <a:noFill/>
          </a:ln>
        </p:spPr>
        <p:txBody>
          <a:bodyPr lIns="545040" rIns="545040" tIns="272520" bIns="27252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5446800"/>
                <a:tab algn="l" pos="10893600"/>
              </a:tabLst>
              <a:defRPr b="0" lang="en-US" sz="7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5446800"/>
                <a:tab algn="l" pos="10893600"/>
              </a:tabLst>
            </a:pPr>
            <a:r>
              <a:rPr b="0" lang="en-US" sz="7200" spc="-1" strike="noStrike">
                <a:solidFill>
                  <a:srgbClr val="898989"/>
                </a:solidFill>
                <a:latin typeface="Calibri"/>
                <a:ea typeface="Arial"/>
              </a:rPr>
              <a:t>&lt;date/time&gt;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6680" y="40681080"/>
            <a:ext cx="11582640" cy="2336760"/>
          </a:xfrm>
          <a:prstGeom prst="rect">
            <a:avLst/>
          </a:prstGeom>
          <a:noFill/>
          <a:ln w="0">
            <a:noFill/>
          </a:ln>
        </p:spPr>
        <p:txBody>
          <a:bodyPr lIns="545040" rIns="545040" tIns="272520" bIns="272520" anchor="ctr">
            <a:noAutofit/>
          </a:bodyPr>
          <a:p>
            <a:pPr indent="0">
              <a:buNone/>
              <a:tabLst>
                <a:tab algn="l" pos="0"/>
                <a:tab algn="l" pos="5446800"/>
                <a:tab algn="l" pos="1089360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12320" y="40681080"/>
            <a:ext cx="8534520" cy="2336760"/>
          </a:xfrm>
          <a:prstGeom prst="rect">
            <a:avLst/>
          </a:prstGeom>
          <a:noFill/>
          <a:ln w="0">
            <a:noFill/>
          </a:ln>
        </p:spPr>
        <p:txBody>
          <a:bodyPr lIns="545040" rIns="545040" tIns="272520" bIns="27252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5446800"/>
                <a:tab algn="l" pos="10893600"/>
              </a:tabLst>
              <a:defRPr b="0" lang="en-US" sz="7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5446800"/>
                <a:tab algn="l" pos="10893600"/>
              </a:tabLst>
            </a:pPr>
            <a:fld id="{34341037-4504-4A42-A729-F3675C62A7F9}" type="slidenum">
              <a:rPr b="0" lang="en-US" sz="7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image" Target="../media/image7.jpeg"/><Relationship Id="rId8" Type="http://schemas.openxmlformats.org/officeDocument/2006/relationships/image" Target="../media/image8.pn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fff3">
            <a:alpha val="75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itle 3"/>
          <p:cNvSpPr/>
          <p:nvPr/>
        </p:nvSpPr>
        <p:spPr>
          <a:xfrm>
            <a:off x="0" y="565200"/>
            <a:ext cx="36576000" cy="28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5040" rIns="545040" tIns="272520" bIns="272520" anchor="ctr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5446800"/>
                <a:tab algn="l" pos="108936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Calibri"/>
              </a:rPr>
              <a:t>Molecular Mechanisms of Goss’s Wilt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5446800"/>
                <a:tab algn="l" pos="108936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5446800"/>
                <a:tab algn="l" pos="10893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Samuel Eastman</a:t>
            </a:r>
            <a:r>
              <a:rPr b="0" lang="en-US" sz="3500" spc="-1" strike="noStrike" baseline="30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, Guangyong Li</a:t>
            </a:r>
            <a:r>
              <a:rPr b="0" lang="en-US" sz="3500" spc="-1" strike="noStrike" baseline="30000">
                <a:solidFill>
                  <a:srgbClr val="000000"/>
                </a:solidFill>
                <a:latin typeface="Calibri"/>
              </a:rPr>
              <a:t>2,3</a:t>
            </a: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, Fan Yang</a:t>
            </a:r>
            <a:r>
              <a:rPr b="0" lang="en-US" sz="3500" spc="-1" strike="noStrike" baseline="30000">
                <a:solidFill>
                  <a:srgbClr val="000000"/>
                </a:solidFill>
                <a:latin typeface="Calibri"/>
              </a:rPr>
              <a:t>2,3</a:t>
            </a: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, Josh Herr</a:t>
            </a:r>
            <a:r>
              <a:rPr b="0" lang="en-US" sz="3500" spc="-1" strike="noStrike" baseline="30000">
                <a:solidFill>
                  <a:srgbClr val="000000"/>
                </a:solidFill>
                <a:latin typeface="Calibri"/>
              </a:rPr>
              <a:t>2,3 </a:t>
            </a: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and James R. Alfano</a:t>
            </a:r>
            <a:r>
              <a:rPr b="0" lang="en-US" sz="3500" spc="-1" strike="noStrike" baseline="30000">
                <a:solidFill>
                  <a:srgbClr val="000000"/>
                </a:solidFill>
                <a:latin typeface="Calibri"/>
              </a:rPr>
              <a:t>1,2,3</a:t>
            </a:r>
            <a:br>
              <a:rPr sz="1600"/>
            </a:br>
            <a:r>
              <a:rPr b="0" lang="en-US" sz="3000" spc="-1" strike="noStrike" baseline="30000">
                <a:solidFill>
                  <a:srgbClr val="000000"/>
                </a:solidFill>
                <a:latin typeface="Calibri"/>
              </a:rPr>
              <a:t> 1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UNL Undergraduate Microbiology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5446800"/>
                <a:tab algn="l" pos="10893600"/>
              </a:tabLst>
            </a:pPr>
            <a:r>
              <a:rPr b="0" lang="en-US" sz="3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enter for Plant Science Innovation and 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epartment of Plant Pathology, University of Nebraska-Lincol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1444"/>
          <p:cNvSpPr/>
          <p:nvPr/>
        </p:nvSpPr>
        <p:spPr>
          <a:xfrm>
            <a:off x="1009800" y="3819600"/>
            <a:ext cx="11034720" cy="52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446800"/>
                <a:tab algn="l" pos="10893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bstr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446800"/>
                <a:tab algn="l" pos="108936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lavibacter michiganensi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sp.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ebraskensis (Cmn)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a pathogen responsible for Goss’s Wilt in maize in the high plains.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ains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lavibacter michiganensi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ubsp.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ebraskensi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at are virulent and non-virulent in maize have been isolated, but the mechanism of this differentiation is not understood. Investigation of the genetic differences between virulent and non-virulent strains is providing an explanation as to how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m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uses disease.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m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utants with reduced or removed virulence have been created using Tn5 transposon transformation to randomly knockout virulence factors. Potential effectors have also been identified in a genomic “virulence island” region by using bioinformatic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2"/>
          <p:cNvSpPr/>
          <p:nvPr/>
        </p:nvSpPr>
        <p:spPr>
          <a:xfrm>
            <a:off x="24855480" y="32580360"/>
            <a:ext cx="10578960" cy="28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Gene Knockout using Homologous Recombin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ing Homologous Recombination the virulence region described above and all the genes contained within will be knocked out all at once. A specially-prepared version of DNA with identical sequences from up- and down-stream of the virulence region will bind to the genomic DNA and replace the region with a selectable antibiotic mark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251"/>
          <p:cNvSpPr/>
          <p:nvPr/>
        </p:nvSpPr>
        <p:spPr>
          <a:xfrm>
            <a:off x="24855480" y="22480560"/>
            <a:ext cx="10615680" cy="28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446800"/>
                <a:tab algn="l" pos="10893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everse Genetics Approac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446800"/>
                <a:tab algn="l" pos="10893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y comparing the sequence of the virulent strain of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Cm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to other, avirulent strains, candidate genes for potential effectors were identified. The genes in green are located clustered together with a gene for a Phage integrase protein, suggesting a region of virulence genes (a “virulence island”), responsible for the acquisition of pathogenicity and Goss’s Wilt symptom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2"/>
          <p:cNvSpPr/>
          <p:nvPr/>
        </p:nvSpPr>
        <p:spPr>
          <a:xfrm>
            <a:off x="24855480" y="36288720"/>
            <a:ext cx="10801440" cy="326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 appreciate the help of Dr. Bob Harveson and Kathy Nielson for providing heirloom Golden Bantam maize seeds and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Cmn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rains from their collection, of Dr. Tamra Jackson for providing many base strains of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Cm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from her collection, and of Dr. Riekhof for assistance with molecular techniqu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s research was supported by a UCARE grant from the University of Nebraska-Lincol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2"/>
          <p:cNvSpPr/>
          <p:nvPr/>
        </p:nvSpPr>
        <p:spPr>
          <a:xfrm>
            <a:off x="12704760" y="40269960"/>
            <a:ext cx="11345760" cy="168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ain-Specific Colony PC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y including strain-specific primers in the PCR reaction, potentially avirulent strains were either identified as arising from the original transformed strain, or identified as a contaminant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019"/>
          <p:cNvSpPr/>
          <p:nvPr/>
        </p:nvSpPr>
        <p:spPr>
          <a:xfrm>
            <a:off x="12665160" y="31713480"/>
            <a:ext cx="11442600" cy="20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446800"/>
                <a:tab algn="l" pos="10893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avibacter Virulence Da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446800"/>
                <a:tab algn="l" pos="10893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irulence readings on over 1000 randomly generated mutants were taken and recorded. Potentially avirulent strains are shown in green to show reduced or absent virulence in the plan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446800"/>
                <a:tab algn="l" pos="10893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984"/>
          <p:cNvSpPr/>
          <p:nvPr/>
        </p:nvSpPr>
        <p:spPr>
          <a:xfrm>
            <a:off x="254160" y="195120"/>
            <a:ext cx="36118800" cy="43485120"/>
          </a:xfrm>
          <a:prstGeom prst="rect">
            <a:avLst/>
          </a:prstGeom>
          <a:noFill/>
          <a:ln w="507960">
            <a:solidFill>
              <a:srgbClr val="addb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9360" rIns="99360" tIns="49680" bIns="49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446800"/>
                <a:tab algn="l" pos="1089360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961"/>
          <p:cNvSpPr/>
          <p:nvPr/>
        </p:nvSpPr>
        <p:spPr>
          <a:xfrm>
            <a:off x="1009800" y="24300000"/>
            <a:ext cx="10905840" cy="28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446800"/>
                <a:tab algn="l" pos="10893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Goss’ Wilt Symptom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446800"/>
                <a:tab algn="l" pos="10893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oss’s Wilt is a vascular pathogen that causes tissue necrosis parallel to leaf veins, with characteristic spots of bacterial exudate. Yield loss due to Goss’s Wilt can reach 50% in severely infected fields. Goss’s Wilt is historically a Nebraska pathogen but the range of disease increases during hot, dry year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446800"/>
                <a:tab algn="l" pos="10893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1052"/>
          <p:cNvSpPr/>
          <p:nvPr/>
        </p:nvSpPr>
        <p:spPr>
          <a:xfrm>
            <a:off x="12704760" y="11566440"/>
            <a:ext cx="10747440" cy="20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446800"/>
                <a:tab algn="l" pos="10893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oculated corn symptom comparis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446800"/>
                <a:tab algn="l" pos="10893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severity of Goss’s Wilt symptoms was recorded in all inoculated plants. Transformed strains that caused significantly reduced or absent symptoms were flagged for analysis and further testing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446800"/>
                <a:tab algn="l" pos="10893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2"/>
          <p:cNvSpPr/>
          <p:nvPr/>
        </p:nvSpPr>
        <p:spPr>
          <a:xfrm>
            <a:off x="1009800" y="40620960"/>
            <a:ext cx="10674360" cy="12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Laboratory Setu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lants were inoculated by dabbing bacterial solution on a leaf cut. They were then kept for 1 week in a growth chamber at 24 degrees C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" descr="IMG_9941.JPG"/>
          <p:cNvPicPr/>
          <p:nvPr/>
        </p:nvPicPr>
        <p:blipFill>
          <a:blip r:embed="rId1"/>
          <a:stretch/>
        </p:blipFill>
        <p:spPr>
          <a:xfrm>
            <a:off x="17442000" y="3470400"/>
            <a:ext cx="5054400" cy="7596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" descr="Tn5-28.JPG"/>
          <p:cNvPicPr/>
          <p:nvPr/>
        </p:nvPicPr>
        <p:blipFill>
          <a:blip r:embed="rId2"/>
          <a:stretch/>
        </p:blipFill>
        <p:spPr>
          <a:xfrm>
            <a:off x="12395160" y="3470400"/>
            <a:ext cx="5064120" cy="7596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5" descr="03111443b.jpg"/>
          <p:cNvPicPr/>
          <p:nvPr/>
        </p:nvPicPr>
        <p:blipFill>
          <a:blip r:embed="rId3"/>
          <a:stretch/>
        </p:blipFill>
        <p:spPr>
          <a:xfrm>
            <a:off x="1886040" y="9429840"/>
            <a:ext cx="7920000" cy="105598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" descr="IMG_0024.jpg"/>
          <p:cNvPicPr/>
          <p:nvPr/>
        </p:nvPicPr>
        <p:blipFill>
          <a:blip r:embed="rId4"/>
          <a:stretch/>
        </p:blipFill>
        <p:spPr>
          <a:xfrm>
            <a:off x="1155600" y="27194040"/>
            <a:ext cx="10304640" cy="68706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7" descr="IMG_0026.jpg"/>
          <p:cNvPicPr/>
          <p:nvPr/>
        </p:nvPicPr>
        <p:blipFill>
          <a:blip r:embed="rId5"/>
          <a:stretch/>
        </p:blipFill>
        <p:spPr>
          <a:xfrm>
            <a:off x="1469880" y="34101000"/>
            <a:ext cx="9698040" cy="64659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" descr="alfanolab 2016-03-21 14hr 02min.tif"/>
          <p:cNvPicPr/>
          <p:nvPr/>
        </p:nvPicPr>
        <p:blipFill>
          <a:blip r:embed="rId6"/>
          <a:stretch/>
        </p:blipFill>
        <p:spPr>
          <a:xfrm>
            <a:off x="14468400" y="34537680"/>
            <a:ext cx="7199280" cy="5398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5" name=""/>
          <p:cNvGraphicFramePr/>
          <p:nvPr/>
        </p:nvGraphicFramePr>
        <p:xfrm>
          <a:off x="25192080" y="12184200"/>
          <a:ext cx="10105920" cy="9799560"/>
        </p:xfrm>
        <a:graphic>
          <a:graphicData uri="http://schemas.openxmlformats.org/drawingml/2006/table">
            <a:tbl>
              <a:tblPr/>
              <a:tblGrid>
                <a:gridCol w="1857240"/>
                <a:gridCol w="2408400"/>
                <a:gridCol w="2446200"/>
                <a:gridCol w="1005120"/>
                <a:gridCol w="1004760"/>
                <a:gridCol w="1384200"/>
              </a:tblGrid>
              <a:tr h="36504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. I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ne Nam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act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ze(bp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C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1" lang="it-IT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C Diff.(-73%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0" lang="sk-SK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0" lang="sk-SK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0" lang="sk-SK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0" lang="sk-SK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0" lang="sk-SK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0" lang="sk-SK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0" lang="de-DE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KKA_0009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ypothetical protei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nknow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0" lang="is-I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0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3.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1" lang="de-DE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KKA_00133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ypothetical protei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0" lang="sk-SK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0" lang="fi-FI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0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0" lang="de-DE" sz="11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PROKKA_0043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hage_integras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hage_integras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0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3.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0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9.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0" lang="de-DE" sz="11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PROKKA_004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ypothetical protei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nknow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0" lang="is-I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0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5.0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0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8.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0" lang="de-DE" sz="11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PROKKA_0043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ypothetical protei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nknow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0" lang="is-I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0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9.2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3.8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0" lang="de-DE" sz="11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PROKKA_0044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ypothetical protei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nknow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0" lang="is-I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0" lang="nb-NO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5.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0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7.8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1" lang="de-DE" sz="11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PROKKA_0044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ypothetical protei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nknow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0" lang="is-I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0" lang="nb-NO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5.4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0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7.5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1" lang="de-DE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KKA_01195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ypothetical protei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nknow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0" lang="is-I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0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3.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0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0" lang="is-I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KKA_0130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ypothetical protei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nknow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9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0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2.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604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0" lang="de-DE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KKA_014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suMI modification methylase subunit Ydi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utative BsuMI modification methylase subunit Ydi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4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0" lang="nb-NO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7.6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0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5.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KKA_0149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ypothetical protei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nknow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0" lang="is-I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0" lang="fi-FI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9.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0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76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0" lang="de-DE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KKA_01504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ypothetical protei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nknow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0" lang="nb-NO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5.4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0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1" lang="de-DE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KKA_01554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ypothetical protei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nknow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0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8.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0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1" lang="is-I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KKA_02089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ypothetical protei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nknow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0" lang="is-I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0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3.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0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KKA_02139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ypothetical protei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nknow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0" lang="nb-NO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5.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0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0" lang="is-I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KKA_02246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ypothetical protei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nknow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0" lang="is-I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0" lang="nb-NO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1.9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0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9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1" lang="de-DE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KKA_0231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ypothetical protei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nknow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0" lang="is-I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7.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0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8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0" lang="de-DE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KKA_02646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ypothetical protei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nknow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0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8.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0" lang="de-DE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KKA_02648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ypothetical protei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nknow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0" lang="nb-NO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7.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0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5.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0" lang="de-DE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KKA_02652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ypothetical protei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nknow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0" lang="is-I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0" lang="nb-NO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5.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0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7.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0" lang="de-DE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KKA_0265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ypothetical protei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nknow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0" lang="fi-FI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0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8.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0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4.3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0" lang="de-DE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KKA_0265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ypothetical protei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nknow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0" lang="is-I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0" lang="nb-NO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7.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0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5.7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0" lang="de-DE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KKA_0265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ypothetical protei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nknow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0" lang="fi-FI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0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8.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0" lang="de-DE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KKA_02681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ypothetical protei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nknow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0" lang="nb-NO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7.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0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5.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6" name="Picture 2" descr="goss_wilt_map.jpg"/>
          <p:cNvPicPr/>
          <p:nvPr/>
        </p:nvPicPr>
        <p:blipFill>
          <a:blip r:embed="rId7"/>
          <a:stretch/>
        </p:blipFill>
        <p:spPr>
          <a:xfrm>
            <a:off x="4121280" y="17996040"/>
            <a:ext cx="7864200" cy="5879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7" name=""/>
          <p:cNvGraphicFramePr/>
          <p:nvPr/>
        </p:nvGraphicFramePr>
        <p:xfrm>
          <a:off x="13515840" y="23677560"/>
          <a:ext cx="8926560" cy="7689960"/>
        </p:xfrm>
        <a:graphic>
          <a:graphicData uri="http://schemas.openxmlformats.org/drawingml/2006/table">
            <a:tbl>
              <a:tblPr/>
              <a:tblGrid>
                <a:gridCol w="1052640"/>
                <a:gridCol w="866880"/>
                <a:gridCol w="1968480"/>
                <a:gridCol w="1681200"/>
                <a:gridCol w="1170000"/>
                <a:gridCol w="1135080"/>
                <a:gridCol w="1052280"/>
              </a:tblGrid>
              <a:tr h="1122480"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ra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rulen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e Inocula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utant Typ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thod of Inocul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ype of Cor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oc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30080"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1" lang="en-US" sz="1600" spc="-1" strike="noStrike">
                          <a:solidFill>
                            <a:srgbClr val="9c0006"/>
                          </a:solidFill>
                          <a:latin typeface="Calibri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7ce"/>
                    </a:solidFill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/12/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zTn5 Mutant (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ick-D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irloom G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28640"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1" lang="is-I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1" lang="en-US" sz="1600" spc="-1" strike="noStrike">
                          <a:solidFill>
                            <a:srgbClr val="9c0006"/>
                          </a:solidFill>
                          <a:latin typeface="Calibri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7ce"/>
                    </a:solidFill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/12/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zTn5 Mutant (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ick-D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irloom G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30440"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1" lang="is-I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1" lang="en-US" sz="1600" spc="-1" strike="noStrike">
                          <a:solidFill>
                            <a:srgbClr val="9c0006"/>
                          </a:solidFill>
                          <a:latin typeface="Calibri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7ce"/>
                    </a:solidFill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/12/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zTn5 Mutant (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ick-D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irloom G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30080"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1" lang="en-US" sz="1600" spc="-1" strike="noStrike">
                          <a:solidFill>
                            <a:srgbClr val="9c0006"/>
                          </a:solidFill>
                          <a:latin typeface="Calibri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7ce"/>
                    </a:solidFill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/12/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zTn5 Mutant (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ick-D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irloom G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28640"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1" lang="en-US" sz="1600" spc="-1" strike="noStrike">
                          <a:solidFill>
                            <a:srgbClr val="9c0006"/>
                          </a:solidFill>
                          <a:latin typeface="Calibri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7ce"/>
                    </a:solidFill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/12/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zTn5 Mutant (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ick-D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irloom G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30440"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1" lang="en-US" sz="1600" spc="-1" strike="noStrike">
                          <a:solidFill>
                            <a:srgbClr val="9c0006"/>
                          </a:solidFill>
                          <a:latin typeface="Calibri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7ce"/>
                    </a:solidFill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/12/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zTn5 Mutant (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ick-D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irloom G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30080"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1" lang="en-US" sz="1600" spc="-1" strike="noStrike">
                          <a:solidFill>
                            <a:srgbClr val="9c0006"/>
                          </a:solidFill>
                          <a:latin typeface="Calibri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7ce"/>
                    </a:solidFill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/12/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zTn5 Mutant (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ick-D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irloom G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28640"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1" lang="fi-FI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1" lang="en-US" sz="1600" spc="-1" strike="noStrike">
                          <a:solidFill>
                            <a:srgbClr val="9c0006"/>
                          </a:solidFill>
                          <a:latin typeface="Calibri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7ce"/>
                    </a:solidFill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/12/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zTn5 Mutant (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ick-D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irloom G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30440"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1" lang="en-US" sz="1600" spc="-1" strike="noStrike">
                          <a:solidFill>
                            <a:srgbClr val="006100"/>
                          </a:solidFill>
                          <a:latin typeface="Calibri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6efce"/>
                    </a:solidFill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/12/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zTn5 Mutant (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ick-D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irloom G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" name="TextBox 1052"/>
          <p:cNvSpPr/>
          <p:nvPr/>
        </p:nvSpPr>
        <p:spPr>
          <a:xfrm>
            <a:off x="12619080" y="21610800"/>
            <a:ext cx="10747440" cy="20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446800"/>
                <a:tab algn="l" pos="10893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n5 Transposome Random Mutagenesi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446800"/>
                <a:tab algn="l" pos="10893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y transforming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Cmn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a transposon carrying a selectable antibiotic-resistance gene, over a thousand random mutants of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Cmn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re created. The Tn5 transposon inserts randomly into the genome, breaking any gene in which it land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10" descr="i_eztn5_transposome_process.png"/>
          <p:cNvPicPr/>
          <p:nvPr/>
        </p:nvPicPr>
        <p:blipFill>
          <a:blip r:embed="rId8"/>
          <a:stretch/>
        </p:blipFill>
        <p:spPr>
          <a:xfrm>
            <a:off x="13625640" y="13828680"/>
            <a:ext cx="8716680" cy="74455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1" descr="genetic-mutations-fig41.jpg"/>
          <p:cNvPicPr/>
          <p:nvPr/>
        </p:nvPicPr>
        <p:blipFill>
          <a:blip r:embed="rId9"/>
          <a:srcRect l="15315" t="0" r="13514" b="0"/>
          <a:stretch/>
        </p:blipFill>
        <p:spPr>
          <a:xfrm>
            <a:off x="25120440" y="25768440"/>
            <a:ext cx="10053720" cy="6756120"/>
          </a:xfrm>
          <a:prstGeom prst="rect">
            <a:avLst/>
          </a:prstGeom>
          <a:ln w="0">
            <a:noFill/>
          </a:ln>
        </p:spPr>
      </p:pic>
      <p:sp>
        <p:nvSpPr>
          <p:cNvPr id="71" name="TextBox 2"/>
          <p:cNvSpPr/>
          <p:nvPr/>
        </p:nvSpPr>
        <p:spPr>
          <a:xfrm>
            <a:off x="16110000" y="35240760"/>
            <a:ext cx="9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446800"/>
                <a:tab algn="l" pos="10893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tr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25"/>
          <p:cNvSpPr/>
          <p:nvPr/>
        </p:nvSpPr>
        <p:spPr>
          <a:xfrm>
            <a:off x="16678440" y="35240760"/>
            <a:ext cx="97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446800"/>
                <a:tab algn="l" pos="10893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26"/>
          <p:cNvSpPr/>
          <p:nvPr/>
        </p:nvSpPr>
        <p:spPr>
          <a:xfrm>
            <a:off x="17276760" y="35245800"/>
            <a:ext cx="96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446800"/>
                <a:tab algn="l" pos="10893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27"/>
          <p:cNvSpPr/>
          <p:nvPr/>
        </p:nvSpPr>
        <p:spPr>
          <a:xfrm>
            <a:off x="17868960" y="35245800"/>
            <a:ext cx="9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446800"/>
                <a:tab algn="l" pos="10893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6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28"/>
          <p:cNvSpPr/>
          <p:nvPr/>
        </p:nvSpPr>
        <p:spPr>
          <a:xfrm>
            <a:off x="18462600" y="35245800"/>
            <a:ext cx="96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446800"/>
                <a:tab algn="l" pos="10893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7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29"/>
          <p:cNvSpPr/>
          <p:nvPr/>
        </p:nvSpPr>
        <p:spPr>
          <a:xfrm>
            <a:off x="19056240" y="35245800"/>
            <a:ext cx="97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446800"/>
                <a:tab algn="l" pos="10893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30"/>
          <p:cNvSpPr/>
          <p:nvPr/>
        </p:nvSpPr>
        <p:spPr>
          <a:xfrm>
            <a:off x="19648440" y="35245800"/>
            <a:ext cx="96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446800"/>
                <a:tab algn="l" pos="10893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7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25501680" y="3014640"/>
          <a:ext cx="8926560" cy="7113600"/>
        </p:xfrm>
        <a:graphic>
          <a:graphicData uri="http://schemas.openxmlformats.org/drawingml/2006/table">
            <a:tbl>
              <a:tblPr/>
              <a:tblGrid>
                <a:gridCol w="1052280"/>
                <a:gridCol w="866880"/>
                <a:gridCol w="1968480"/>
                <a:gridCol w="1681200"/>
                <a:gridCol w="1170000"/>
                <a:gridCol w="1135080"/>
                <a:gridCol w="1052640"/>
              </a:tblGrid>
              <a:tr h="808200"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ra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rulen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e Inocula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utant Typ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thod of Inocul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ype of Cor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oc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5240"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1" lang="en-US" sz="1600" spc="-1" strike="noStrike">
                          <a:solidFill>
                            <a:srgbClr val="006100"/>
                          </a:solidFill>
                          <a:latin typeface="Calibri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/12/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zTn5 Mutant (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ick-D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irloom G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5600"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1" lang="is-I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6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1" lang="en-US" sz="1600" spc="-1" strike="noStrike">
                          <a:solidFill>
                            <a:srgbClr val="006100"/>
                          </a:solidFill>
                          <a:latin typeface="Calibri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/12/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zTn5 Mutant (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ick-D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irloom G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5240"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1" lang="is-I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7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1" lang="en-US" sz="1600" spc="-1" strike="noStrike">
                          <a:solidFill>
                            <a:srgbClr val="006100"/>
                          </a:solidFill>
                          <a:latin typeface="Calibri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/12/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zTn5 Mutant (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ick-D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irloom G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5600"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1" lang="en-US" sz="1600" spc="-1" strike="noStrike">
                          <a:solidFill>
                            <a:srgbClr val="006100"/>
                          </a:solidFill>
                          <a:latin typeface="Calibri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/12/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zTn5 Mutant (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ick-D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irloom G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5600"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1" lang="en-US" sz="1600" spc="-1" strike="noStrike">
                          <a:solidFill>
                            <a:srgbClr val="006100"/>
                          </a:solidFill>
                          <a:latin typeface="Calibri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/12/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zTn5 Mutant (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ick-D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irloom G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5240"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1" lang="en-US" sz="1600" spc="-1" strike="noStrike">
                          <a:solidFill>
                            <a:srgbClr val="006100"/>
                          </a:solidFill>
                          <a:latin typeface="Calibri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/12/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zTn5 Mutant (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ick-D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irloom G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5600"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1" lang="en-US" sz="1600" spc="-1" strike="noStrike">
                          <a:solidFill>
                            <a:srgbClr val="006100"/>
                          </a:solidFill>
                          <a:latin typeface="Calibri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/19/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zTn5 Mutant (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ick-D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irloom G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5600"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1" lang="fi-FI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1" lang="en-US" sz="1600" spc="-1" strike="noStrike">
                          <a:solidFill>
                            <a:srgbClr val="006100"/>
                          </a:solidFill>
                          <a:latin typeface="Calibri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/19/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zTn5 Mutant (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ick-D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irloom G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5240"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5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1" lang="en-US" sz="1600" spc="-1" strike="noStrike">
                          <a:solidFill>
                            <a:srgbClr val="006100"/>
                          </a:solidFill>
                          <a:latin typeface="Calibri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/19/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zTn5 Mutant (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ick-D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irloom G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5600"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8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1" lang="en-US" sz="1600" spc="-1" strike="noStrike">
                          <a:solidFill>
                            <a:srgbClr val="006100"/>
                          </a:solidFill>
                          <a:latin typeface="Calibri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/19/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zTn5 Mutant (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ick-D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irloom G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5240"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1" lang="en-US" sz="1600" spc="-1" strike="noStrike">
                          <a:solidFill>
                            <a:srgbClr val="006100"/>
                          </a:solidFill>
                          <a:latin typeface="Calibri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/26/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zTn5 Mutant (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ick-D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irloom G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5600"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1" lang="en-US" sz="1600" spc="-1" strike="noStrike">
                          <a:solidFill>
                            <a:srgbClr val="006100"/>
                          </a:solidFill>
                          <a:latin typeface="Calibri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/26/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zTn5 Mutant (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ick-D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irloom G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9" name="Rectangle 1251"/>
          <p:cNvSpPr/>
          <p:nvPr/>
        </p:nvSpPr>
        <p:spPr>
          <a:xfrm>
            <a:off x="24914160" y="10613880"/>
            <a:ext cx="10615680" cy="89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446800"/>
                <a:tab algn="l" pos="10893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virulent Muta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446800"/>
                <a:tab algn="l" pos="10893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ut of almost 1200 Tn5 mutants, 12 showed no virulences on maiz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4T03:35:38Z</dcterms:created>
  <dc:creator>Byeong-ryool Jeong</dc:creator>
  <dc:description/>
  <dc:language>en-US</dc:language>
  <cp:lastModifiedBy>Paul Royster</cp:lastModifiedBy>
  <dcterms:modified xsi:type="dcterms:W3CDTF">2016-04-12T19:33:15Z</dcterms:modified>
  <cp:revision>274</cp:revision>
  <dc:subject/>
  <dc:title>Slide 1</dc:title>
</cp:coreProperties>
</file>