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itle for graph. Don’t forget to add border of 4.5pt font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shows that cerium oxide coatings don’t give benefit to hydrophobicity, derive benefits from stainless steel and adding thermal resistance – overall no real benefit from coat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800" y="6418800"/>
            <a:ext cx="3291804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828800" y="14729040"/>
            <a:ext cx="3291804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641880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8696240" y="641880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800" y="1472904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8696240" y="1472904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18800"/>
            <a:ext cx="1059948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8560" y="6418800"/>
            <a:ext cx="1059948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88320" y="6418800"/>
            <a:ext cx="1059948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28800" y="14729040"/>
            <a:ext cx="1059948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2958560" y="14729040"/>
            <a:ext cx="1059948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24088320" y="14729040"/>
            <a:ext cx="1059948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828800" y="6418800"/>
            <a:ext cx="32918040" cy="15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828800" y="6418800"/>
            <a:ext cx="32918040" cy="15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28800" y="6418800"/>
            <a:ext cx="16063920" cy="15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8696240" y="6418800"/>
            <a:ext cx="16063920" cy="15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828800" y="1094400"/>
            <a:ext cx="32918040" cy="212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1880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18800"/>
            <a:ext cx="16063920" cy="15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828800" y="1472904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800" y="6418800"/>
            <a:ext cx="16063920" cy="15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8696240" y="641880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696240" y="1472904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1094400"/>
            <a:ext cx="32918040" cy="45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800" y="641880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8696240" y="6418800"/>
            <a:ext cx="1606392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28800" y="14729040"/>
            <a:ext cx="32918040" cy="75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129.187.45.233/tum-td/de/forschung/themen/subcooled_flow_boiling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jpe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3"/>
          <p:cNvGrpSpPr/>
          <p:nvPr/>
        </p:nvGrpSpPr>
        <p:grpSpPr>
          <a:xfrm>
            <a:off x="26370000" y="4772160"/>
            <a:ext cx="8699400" cy="1307880"/>
            <a:chOff x="26370000" y="4772160"/>
            <a:chExt cx="8699400" cy="1307880"/>
          </a:xfrm>
        </p:grpSpPr>
        <p:sp>
          <p:nvSpPr>
            <p:cNvPr id="40" name="Rectangle 1"/>
            <p:cNvSpPr/>
            <p:nvPr/>
          </p:nvSpPr>
          <p:spPr>
            <a:xfrm>
              <a:off x="26370000" y="4772160"/>
              <a:ext cx="8699400" cy="1307880"/>
            </a:xfrm>
            <a:prstGeom prst="rect">
              <a:avLst/>
            </a:prstGeom>
            <a:solidFill>
              <a:srgbClr val="c3092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" name="Rectangle 2"/>
            <p:cNvSpPr/>
            <p:nvPr/>
          </p:nvSpPr>
          <p:spPr>
            <a:xfrm>
              <a:off x="26370000" y="4772160"/>
              <a:ext cx="869940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 Bold"/>
                  <a:ea typeface="Arial Bold"/>
                </a:rPr>
                <a:t>PRELIMINARY RESULTS &amp; DISCUSSION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" name="Group 6"/>
          <p:cNvGrpSpPr/>
          <p:nvPr/>
        </p:nvGrpSpPr>
        <p:grpSpPr>
          <a:xfrm>
            <a:off x="26370000" y="6059520"/>
            <a:ext cx="8699400" cy="8889840"/>
            <a:chOff x="26370000" y="6059520"/>
            <a:chExt cx="8699400" cy="8889840"/>
          </a:xfrm>
        </p:grpSpPr>
        <p:sp>
          <p:nvSpPr>
            <p:cNvPr id="43" name="Rectangle 4"/>
            <p:cNvSpPr/>
            <p:nvPr/>
          </p:nvSpPr>
          <p:spPr>
            <a:xfrm>
              <a:off x="26370000" y="6059520"/>
              <a:ext cx="8699400" cy="8889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6370000" y="6059520"/>
              <a:ext cx="86994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" name="Group 9"/>
          <p:cNvGrpSpPr/>
          <p:nvPr/>
        </p:nvGrpSpPr>
        <p:grpSpPr>
          <a:xfrm>
            <a:off x="4191120" y="569880"/>
            <a:ext cx="28282680" cy="3619440"/>
            <a:chOff x="4191120" y="569880"/>
            <a:chExt cx="28282680" cy="3619440"/>
          </a:xfrm>
        </p:grpSpPr>
        <p:sp>
          <p:nvSpPr>
            <p:cNvPr id="46" name="Rectangle 7"/>
            <p:cNvSpPr/>
            <p:nvPr/>
          </p:nvSpPr>
          <p:spPr>
            <a:xfrm>
              <a:off x="4191120" y="569880"/>
              <a:ext cx="28282680" cy="3619440"/>
            </a:xfrm>
            <a:prstGeom prst="rect">
              <a:avLst/>
            </a:prstGeom>
            <a:solidFill>
              <a:srgbClr val="c3092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4191120" y="569880"/>
              <a:ext cx="28282680" cy="33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 Bold"/>
                  <a:ea typeface="Arial Bold"/>
                </a:rPr>
                <a:t>Leidenfrost Energy Barriers</a:t>
              </a:r>
              <a:endParaRPr b="0" lang="en-US" sz="66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old"/>
                  <a:ea typeface="Arial Bold"/>
                </a:rPr>
                <a:t>James Peck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Anton Hassebrook, Craig Zuhlke,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oy Anderson, Dennis Alexander, George Gogos, Sidy Ndao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partment of Mechanical Engineering, University of Nebraska–Lincoln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8" name="Rectangle 10"/>
          <p:cNvSpPr/>
          <p:nvPr/>
        </p:nvSpPr>
        <p:spPr>
          <a:xfrm>
            <a:off x="26368200" y="16245000"/>
            <a:ext cx="8699760" cy="4610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357400" y="22280400"/>
            <a:ext cx="871200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506600" y="13658760"/>
            <a:ext cx="8432640" cy="1322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521000" y="5477040"/>
            <a:ext cx="8432640" cy="7137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1522440" y="4772160"/>
            <a:ext cx="8432640" cy="736560"/>
            <a:chOff x="1522440" y="4772160"/>
            <a:chExt cx="8432640" cy="736560"/>
          </a:xfrm>
        </p:grpSpPr>
        <p:sp>
          <p:nvSpPr>
            <p:cNvPr id="53" name="Rectangle 14"/>
            <p:cNvSpPr/>
            <p:nvPr/>
          </p:nvSpPr>
          <p:spPr>
            <a:xfrm>
              <a:off x="1522440" y="4772160"/>
              <a:ext cx="8432640" cy="736560"/>
            </a:xfrm>
            <a:prstGeom prst="rect">
              <a:avLst/>
            </a:prstGeom>
            <a:solidFill>
              <a:srgbClr val="c3092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522440" y="4772160"/>
              <a:ext cx="8432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 Bold"/>
                  <a:ea typeface="Arial Bold"/>
                </a:rPr>
                <a:t>MOTIVATION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5" name="Group 19"/>
          <p:cNvGrpSpPr/>
          <p:nvPr/>
        </p:nvGrpSpPr>
        <p:grpSpPr>
          <a:xfrm>
            <a:off x="1503360" y="12922200"/>
            <a:ext cx="8432640" cy="736560"/>
            <a:chOff x="1503360" y="12922200"/>
            <a:chExt cx="8432640" cy="736560"/>
          </a:xfrm>
        </p:grpSpPr>
        <p:sp>
          <p:nvSpPr>
            <p:cNvPr id="56" name="Rectangle 17"/>
            <p:cNvSpPr/>
            <p:nvPr/>
          </p:nvSpPr>
          <p:spPr>
            <a:xfrm>
              <a:off x="1503360" y="12922200"/>
              <a:ext cx="8432640" cy="736560"/>
            </a:xfrm>
            <a:prstGeom prst="rect">
              <a:avLst/>
            </a:prstGeom>
            <a:solidFill>
              <a:srgbClr val="c3092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1503360" y="12922200"/>
              <a:ext cx="8432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 Bold"/>
                  <a:ea typeface="Arial Bold"/>
                </a:rPr>
                <a:t>EXPERIMENTAL SETUPS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8" name="Group 22"/>
          <p:cNvGrpSpPr/>
          <p:nvPr/>
        </p:nvGrpSpPr>
        <p:grpSpPr>
          <a:xfrm>
            <a:off x="26370000" y="15509880"/>
            <a:ext cx="8699400" cy="736560"/>
            <a:chOff x="26370000" y="15509880"/>
            <a:chExt cx="8699400" cy="736560"/>
          </a:xfrm>
        </p:grpSpPr>
        <p:sp>
          <p:nvSpPr>
            <p:cNvPr id="59" name="Rectangle 20"/>
            <p:cNvSpPr/>
            <p:nvPr/>
          </p:nvSpPr>
          <p:spPr>
            <a:xfrm>
              <a:off x="26370000" y="15509880"/>
              <a:ext cx="8699400" cy="736560"/>
            </a:xfrm>
            <a:prstGeom prst="rect">
              <a:avLst/>
            </a:prstGeom>
            <a:solidFill>
              <a:srgbClr val="c3092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26370000" y="15509880"/>
              <a:ext cx="86994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 Bold"/>
                  <a:ea typeface="Arial Bold"/>
                </a:rPr>
                <a:t>CONCLUSION &amp; FUTURE WORK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1" name="Group 25"/>
          <p:cNvGrpSpPr/>
          <p:nvPr/>
        </p:nvGrpSpPr>
        <p:grpSpPr>
          <a:xfrm>
            <a:off x="26357400" y="21543840"/>
            <a:ext cx="8711640" cy="736560"/>
            <a:chOff x="26357400" y="21543840"/>
            <a:chExt cx="8711640" cy="736560"/>
          </a:xfrm>
        </p:grpSpPr>
        <p:sp>
          <p:nvSpPr>
            <p:cNvPr id="62" name="Rectangle 23"/>
            <p:cNvSpPr/>
            <p:nvPr/>
          </p:nvSpPr>
          <p:spPr>
            <a:xfrm>
              <a:off x="26357400" y="21543840"/>
              <a:ext cx="8711640" cy="736560"/>
            </a:xfrm>
            <a:prstGeom prst="rect">
              <a:avLst/>
            </a:prstGeom>
            <a:solidFill>
              <a:srgbClr val="c3092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>
              <a:off x="26357400" y="21543840"/>
              <a:ext cx="8711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 Bold"/>
                  <a:ea typeface="Arial Bold"/>
                </a:rPr>
                <a:t>ACKNOWLEDGEMENTS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64" name="Picture 26" descr=""/>
          <p:cNvPicPr/>
          <p:nvPr/>
        </p:nvPicPr>
        <p:blipFill>
          <a:blip r:embed="rId1"/>
          <a:srcRect l="873" t="5888" r="26775" b="3037"/>
          <a:stretch/>
        </p:blipFill>
        <p:spPr>
          <a:xfrm>
            <a:off x="19659600" y="25146000"/>
            <a:ext cx="4444920" cy="1943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7"/>
          <p:cNvSpPr/>
          <p:nvPr/>
        </p:nvSpPr>
        <p:spPr>
          <a:xfrm>
            <a:off x="10896480" y="5521320"/>
            <a:ext cx="14643360" cy="461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" name="Group 30"/>
          <p:cNvGrpSpPr/>
          <p:nvPr/>
        </p:nvGrpSpPr>
        <p:grpSpPr>
          <a:xfrm>
            <a:off x="10896480" y="4773600"/>
            <a:ext cx="14643000" cy="736560"/>
            <a:chOff x="10896480" y="4773600"/>
            <a:chExt cx="14643000" cy="736560"/>
          </a:xfrm>
        </p:grpSpPr>
        <p:sp>
          <p:nvSpPr>
            <p:cNvPr id="67" name="Rectangle 28"/>
            <p:cNvSpPr/>
            <p:nvPr/>
          </p:nvSpPr>
          <p:spPr>
            <a:xfrm>
              <a:off x="10896480" y="4773600"/>
              <a:ext cx="14643000" cy="736560"/>
            </a:xfrm>
            <a:prstGeom prst="rect">
              <a:avLst/>
            </a:prstGeom>
            <a:solidFill>
              <a:srgbClr val="c3092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>
              <a:off x="10896480" y="4773600"/>
              <a:ext cx="146430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 Bold"/>
                  <a:ea typeface="Arial Bold"/>
                </a:rPr>
                <a:t>FEMTOSECOND LASER SURFACE PROCESSING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" name="Group 33"/>
          <p:cNvGrpSpPr/>
          <p:nvPr/>
        </p:nvGrpSpPr>
        <p:grpSpPr>
          <a:xfrm>
            <a:off x="10896480" y="10466280"/>
            <a:ext cx="14643000" cy="736560"/>
            <a:chOff x="10896480" y="10466280"/>
            <a:chExt cx="14643000" cy="736560"/>
          </a:xfrm>
        </p:grpSpPr>
        <p:sp>
          <p:nvSpPr>
            <p:cNvPr id="70" name="Rectangle 31"/>
            <p:cNvSpPr/>
            <p:nvPr/>
          </p:nvSpPr>
          <p:spPr>
            <a:xfrm>
              <a:off x="10896480" y="10466280"/>
              <a:ext cx="14643000" cy="736560"/>
            </a:xfrm>
            <a:prstGeom prst="rect">
              <a:avLst/>
            </a:prstGeom>
            <a:solidFill>
              <a:srgbClr val="c3092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10896480" y="10466280"/>
              <a:ext cx="146430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 Bold"/>
                  <a:ea typeface="Arial Bold"/>
                </a:rPr>
                <a:t>LEIDENFROST ENERGY BARRIER THEORY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72" name="Picture 34" descr=""/>
          <p:cNvPicPr/>
          <p:nvPr/>
        </p:nvPicPr>
        <p:blipFill>
          <a:blip r:embed="rId2"/>
          <a:stretch/>
        </p:blipFill>
        <p:spPr>
          <a:xfrm>
            <a:off x="733320" y="1066680"/>
            <a:ext cx="3000600" cy="263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"/>
          <p:cNvPicPr/>
          <p:nvPr/>
        </p:nvPicPr>
        <p:blipFill>
          <a:blip r:embed="rId3"/>
          <a:stretch/>
        </p:blipFill>
        <p:spPr>
          <a:xfrm>
            <a:off x="33070680" y="1066680"/>
            <a:ext cx="2998800" cy="2632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6"/>
          <p:cNvSpPr/>
          <p:nvPr/>
        </p:nvSpPr>
        <p:spPr>
          <a:xfrm>
            <a:off x="10896480" y="11215800"/>
            <a:ext cx="14643360" cy="13703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1641600" y="8915400"/>
            <a:ext cx="81788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-propulsion of Leidenfrost droplets can be very important in microfluidics appl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s causing self-motion of Leidenfrost droplets have been previously studied by our group using FLS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ly, our group discovered that there exists a barrier between two surfaces with different wettability near the Leidenfrost st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 the fundamental mechanisms governing the  Leidenfrost Energy Barrier will lead to better control of Leidenfrost droplets for microfluidics application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1644480" y="13828680"/>
            <a:ext cx="803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tosecond Laser Surface Processing of polished Stainless Steel 304 sample to create super-hydrophilic reg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 imaging of micro structu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angled with a 1 degree incline sloping from the needle to the processed strip to draw liquid into barri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trials of 4.17 µL deionized water droplets carried out for each temperature, with 5 degrees Celsius temperatures increme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inconsistencies in droplet/barrier interactions from droplet bouncing, a new experimental setup will be used to test these Leidenfrost Energy Barrie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Rectangle 39"/>
          <p:cNvSpPr/>
          <p:nvPr/>
        </p:nvSpPr>
        <p:spPr>
          <a:xfrm>
            <a:off x="1727280" y="25868160"/>
            <a:ext cx="803916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igure 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Preliminary Energy Barrier Sample on Hot Plate. (B) New Energy Barrier Sample &amp; Setup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Rectangle 40"/>
          <p:cNvSpPr/>
          <p:nvPr/>
        </p:nvSpPr>
        <p:spPr>
          <a:xfrm>
            <a:off x="6095880" y="5765760"/>
            <a:ext cx="331488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igure 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s of Leidenfrost Droplet self-propulsion for ratchets and FLSP fish scales. Taken From: Kruse, et al., (2015). Microfluid Nanofluid. 18: 1418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" name="Picture 41" descr=""/>
          <p:cNvPicPr/>
          <p:nvPr/>
        </p:nvPicPr>
        <p:blipFill>
          <a:blip r:embed="rId4"/>
          <a:srcRect l="0" t="0" r="26338" b="0"/>
          <a:stretch/>
        </p:blipFill>
        <p:spPr>
          <a:xfrm>
            <a:off x="11306160" y="5873760"/>
            <a:ext cx="421632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2" descr=""/>
          <p:cNvPicPr/>
          <p:nvPr/>
        </p:nvPicPr>
        <p:blipFill>
          <a:blip r:embed="rId5"/>
          <a:stretch/>
        </p:blipFill>
        <p:spPr>
          <a:xfrm>
            <a:off x="15935400" y="5770440"/>
            <a:ext cx="5400720" cy="3016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3"/>
          <p:cNvSpPr/>
          <p:nvPr/>
        </p:nvSpPr>
        <p:spPr>
          <a:xfrm>
            <a:off x="11026800" y="8935920"/>
            <a:ext cx="143762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igure 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Spectra-Physics Spitfire Laser.  (B) Microstructure formation from preferential ablation, melting, fluid flow, and redeposition.  (C) SEM image of FLSP microstructu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44"/>
          <p:cNvSpPr/>
          <p:nvPr/>
        </p:nvSpPr>
        <p:spPr>
          <a:xfrm>
            <a:off x="11312640" y="5761080"/>
            <a:ext cx="50076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45"/>
          <p:cNvSpPr/>
          <p:nvPr/>
        </p:nvSpPr>
        <p:spPr>
          <a:xfrm>
            <a:off x="15395760" y="5735520"/>
            <a:ext cx="48384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46"/>
          <p:cNvSpPr/>
          <p:nvPr/>
        </p:nvSpPr>
        <p:spPr>
          <a:xfrm>
            <a:off x="21304440" y="5710320"/>
            <a:ext cx="48384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47"/>
          <p:cNvSpPr/>
          <p:nvPr/>
        </p:nvSpPr>
        <p:spPr>
          <a:xfrm>
            <a:off x="16218000" y="16144920"/>
            <a:ext cx="9232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igure 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iling Regimes According to Nukiyama’s Boiling Curve. Image Taken From : Thermaodynamik. [Image].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129.187.45.233/tum-td/de/forschung/themen/subcooled_flow_boiling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48"/>
          <p:cNvSpPr/>
          <p:nvPr/>
        </p:nvSpPr>
        <p:spPr>
          <a:xfrm>
            <a:off x="26471520" y="22383720"/>
            <a:ext cx="847080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ork has been supported by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CARE program at the University of Nebraska - Lincol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ollam Foundation and the Woollam Summer Internship Progra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raska Center for Energy Sciences Research (NCESR) with funds provided by Nebraska Public Power District (NPPD) to the University of Nebraska – Lincoln (UNL) No. 420000084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 EPSCoR Grant # - NNX13AB17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Mechanical and Materials Engineering and the College of Engineering at UNL, awarded to S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49"/>
          <p:cNvSpPr/>
          <p:nvPr/>
        </p:nvSpPr>
        <p:spPr>
          <a:xfrm>
            <a:off x="26460360" y="16384680"/>
            <a:ext cx="850896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clusive results due to inability to prevent droplet bouncing with either experimental setu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sample to minimize bouncing by using a square channel heated on all sides, utilizing the Leidenfrost effect on upper surface to repel bouncing droplets back towards channel floo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droplet lifetime curves with deionized water on polished and processed surfaces of new sample to compare Leidenfrost Temperatu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he energy barrier concept by running Leidenfrost droplets into processed strip over a range of temperatures at and below the Leidenfrost temperature of the FLSP surface, while varying droplet mass and impact veloc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50" descr=""/>
          <p:cNvPicPr/>
          <p:nvPr/>
        </p:nvPicPr>
        <p:blipFill>
          <a:blip r:embed="rId7"/>
          <a:srcRect l="0" t="12358" r="19010" b="1227"/>
          <a:stretch/>
        </p:blipFill>
        <p:spPr>
          <a:xfrm>
            <a:off x="11379240" y="25146000"/>
            <a:ext cx="4216320" cy="184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1" descr=""/>
          <p:cNvPicPr/>
          <p:nvPr/>
        </p:nvPicPr>
        <p:blipFill>
          <a:blip r:embed="rId8"/>
          <a:srcRect l="0" t="1705" r="0" b="18032"/>
          <a:stretch/>
        </p:blipFill>
        <p:spPr>
          <a:xfrm>
            <a:off x="2174760" y="18587880"/>
            <a:ext cx="7110360" cy="4280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2"/>
          <p:cNvSpPr/>
          <p:nvPr/>
        </p:nvSpPr>
        <p:spPr>
          <a:xfrm>
            <a:off x="11138040" y="11976120"/>
            <a:ext cx="46861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enfrost temperature represents the maximum surface temperature at which efficient heat transfer can occu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presents the onset of the film boiling regim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eidenfrost point, a droplet floats on cushion of own vapo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eidenfrost point, droplet lifetime is longe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idenfrost temperature can be controlled by surface wettability of the substrate using FLS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53"/>
          <p:cNvSpPr/>
          <p:nvPr/>
        </p:nvSpPr>
        <p:spPr>
          <a:xfrm>
            <a:off x="11087280" y="17373600"/>
            <a:ext cx="141220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enfrost Barrier can be created on a substrate with distinct surface regions having different Leidenfrost Poi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sample heated to the Leidenfrost Point of the polished surface, the processed region will be in transition boil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oplet moving from the polished surface to the processed region will encounter a net force pushing it away from the processed region due to thrust from asymmetric boiling and wet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2" name="Picture 54" descr=""/>
          <p:cNvPicPr/>
          <p:nvPr/>
        </p:nvPicPr>
        <p:blipFill>
          <a:blip r:embed="rId9"/>
          <a:srcRect l="13238" t="14682" r="6850" b="8328"/>
          <a:stretch/>
        </p:blipFill>
        <p:spPr>
          <a:xfrm>
            <a:off x="11764800" y="19945440"/>
            <a:ext cx="5626440" cy="311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Object 55"/>
          <p:cNvGraphicFramePr/>
          <p:nvPr/>
        </p:nvGraphicFramePr>
        <p:xfrm>
          <a:off x="26803440" y="6264360"/>
          <a:ext cx="7556400" cy="3581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" name="Object 5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803440" y="6264360"/>
                    <a:ext cx="7556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56"/>
          <p:cNvSpPr/>
          <p:nvPr/>
        </p:nvSpPr>
        <p:spPr>
          <a:xfrm>
            <a:off x="26543160" y="11049120"/>
            <a:ext cx="83437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Leidenfrost Point of the processed Energy Barrier was approached from below, the rejection percentage decrea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st rejection percentage of 54% occurred at Leidenfrost Point of polished surface region (275 Deg. C) - largest difference between sample temp. and processed region Leidenfrost Point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side of the chart with rejection percentage below 10% corresponds to temperatures above Leidenfrost Point of processed surf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variation in results observed from inconsistencies in droplet interactions with Energy Barrier from unpredictable droplet bounc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26898480" y="10045800"/>
            <a:ext cx="801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igure 6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 of droplets from preliminary set-up rejected from Barrier across a range of temperatu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58" descr=""/>
          <p:cNvPicPr/>
          <p:nvPr/>
        </p:nvPicPr>
        <p:blipFill>
          <a:blip r:embed="rId12"/>
          <a:srcRect l="25106" t="53412" r="0" b="247"/>
          <a:stretch/>
        </p:blipFill>
        <p:spPr>
          <a:xfrm>
            <a:off x="18199080" y="19656360"/>
            <a:ext cx="3097080" cy="1920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9" descr=""/>
          <p:cNvPicPr/>
          <p:nvPr/>
        </p:nvPicPr>
        <p:blipFill>
          <a:blip r:embed="rId13"/>
          <a:srcRect l="28063" t="55719" r="3735" b="1620"/>
          <a:stretch/>
        </p:blipFill>
        <p:spPr>
          <a:xfrm>
            <a:off x="21437640" y="19651680"/>
            <a:ext cx="3085920" cy="1930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0" descr=""/>
          <p:cNvPicPr/>
          <p:nvPr/>
        </p:nvPicPr>
        <p:blipFill>
          <a:blip r:embed="rId14"/>
          <a:srcRect l="24206" t="52261" r="0" b="2233"/>
          <a:stretch/>
        </p:blipFill>
        <p:spPr>
          <a:xfrm>
            <a:off x="18200520" y="21704400"/>
            <a:ext cx="3097440" cy="1861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"/>
          <p:cNvPicPr/>
          <p:nvPr/>
        </p:nvPicPr>
        <p:blipFill>
          <a:blip r:embed="rId15"/>
          <a:srcRect l="29628" t="55800" r="343" b="2008"/>
          <a:stretch/>
        </p:blipFill>
        <p:spPr>
          <a:xfrm>
            <a:off x="21415320" y="21690000"/>
            <a:ext cx="3098880" cy="1866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2"/>
          <p:cNvSpPr/>
          <p:nvPr/>
        </p:nvSpPr>
        <p:spPr>
          <a:xfrm>
            <a:off x="11320920" y="1972296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Rectangle 63"/>
          <p:cNvSpPr/>
          <p:nvPr/>
        </p:nvSpPr>
        <p:spPr>
          <a:xfrm>
            <a:off x="17556480" y="1983744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Rectangle 64"/>
          <p:cNvSpPr/>
          <p:nvPr/>
        </p:nvSpPr>
        <p:spPr>
          <a:xfrm>
            <a:off x="11036160" y="23711040"/>
            <a:ext cx="1437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Figure 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Visualization of vapor flow field off Leidenfrost droplet near Energy Barrier (B) Images taken of a Leidenfrost droplet contacting the barrier and rejecting at a substrate temperature of 285 deg. C. The FLSP barrier is underlined in whit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Line 65"/>
          <p:cNvSpPr/>
          <p:nvPr/>
        </p:nvSpPr>
        <p:spPr>
          <a:xfrm flipH="1" flipV="1">
            <a:off x="19478520" y="21135600"/>
            <a:ext cx="125568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Line 66"/>
          <p:cNvSpPr/>
          <p:nvPr/>
        </p:nvSpPr>
        <p:spPr>
          <a:xfrm flipH="1">
            <a:off x="22974120" y="21170880"/>
            <a:ext cx="1076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Line 67"/>
          <p:cNvSpPr/>
          <p:nvPr/>
        </p:nvSpPr>
        <p:spPr>
          <a:xfrm flipH="1" flipV="1">
            <a:off x="19494360" y="23203080"/>
            <a:ext cx="1276560" cy="2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68"/>
          <p:cNvSpPr/>
          <p:nvPr/>
        </p:nvSpPr>
        <p:spPr>
          <a:xfrm flipH="1">
            <a:off x="22669560" y="23178960"/>
            <a:ext cx="12621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9"/>
          <p:cNvSpPr/>
          <p:nvPr/>
        </p:nvSpPr>
        <p:spPr>
          <a:xfrm>
            <a:off x="20033280" y="19837440"/>
            <a:ext cx="77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087 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Rectangle 70"/>
          <p:cNvSpPr/>
          <p:nvPr/>
        </p:nvSpPr>
        <p:spPr>
          <a:xfrm>
            <a:off x="23373360" y="19837440"/>
            <a:ext cx="77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100 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Rectangle 71"/>
          <p:cNvSpPr/>
          <p:nvPr/>
        </p:nvSpPr>
        <p:spPr>
          <a:xfrm>
            <a:off x="20033280" y="21958200"/>
            <a:ext cx="77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124 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Rectangle 72"/>
          <p:cNvSpPr/>
          <p:nvPr/>
        </p:nvSpPr>
        <p:spPr>
          <a:xfrm>
            <a:off x="23373360" y="21856680"/>
            <a:ext cx="77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164 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16"/>
          <a:srcRect l="2728" t="2399" r="1778" b="3809"/>
          <a:stretch/>
        </p:blipFill>
        <p:spPr>
          <a:xfrm>
            <a:off x="1765440" y="5600880"/>
            <a:ext cx="431928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7"/>
          <a:stretch/>
        </p:blipFill>
        <p:spPr>
          <a:xfrm>
            <a:off x="2208240" y="23060160"/>
            <a:ext cx="7113600" cy="2743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5"/>
          <p:cNvSpPr/>
          <p:nvPr/>
        </p:nvSpPr>
        <p:spPr>
          <a:xfrm>
            <a:off x="1668960" y="1865628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76"/>
          <p:cNvSpPr/>
          <p:nvPr/>
        </p:nvSpPr>
        <p:spPr>
          <a:xfrm>
            <a:off x="1668600" y="232282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6" name="Picture 77" descr=""/>
          <p:cNvPicPr/>
          <p:nvPr/>
        </p:nvPicPr>
        <p:blipFill>
          <a:blip r:embed="rId18"/>
          <a:stretch/>
        </p:blipFill>
        <p:spPr>
          <a:xfrm>
            <a:off x="21651840" y="6175440"/>
            <a:ext cx="3494160" cy="237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9"/>
          <a:stretch/>
        </p:blipFill>
        <p:spPr>
          <a:xfrm>
            <a:off x="17170560" y="11512440"/>
            <a:ext cx="68068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y Buckley</dc:creator>
  <dc:description>Call if we can help   800-590-7850_x005F_x000d_
_x005F_x000d_
(c) copyright  MegaPrint Inc. 2001</dc:description>
  <cp:keywords/>
  <dc:language>en-US</dc:language>
  <cp:lastModifiedBy>Paul Royster</cp:lastModifiedBy>
  <dcterms:modified xsi:type="dcterms:W3CDTF">2016-04-29T16:10:46Z</dcterms:modified>
  <cp:revision>1</cp:revision>
  <dc:subject/>
  <dc:title>48x72 poster template</dc:title>
</cp:coreProperties>
</file>