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move the slide</a:t>
            </a:r>
            <a:endParaRPr b="0" lang="en-US" sz="17600" spc="-1" strike="noStrike">
              <a:solidFill>
                <a:srgbClr val="000000"/>
              </a:solidFill>
              <a:latin typeface="Calibri"/>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EBBFC210-B8D5-4537-87E8-FC1571D93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800" cy="3086280"/>
          </a:xfrm>
          <a:prstGeom prst="rect">
            <a:avLst/>
          </a:prstGeom>
          <a:ln w="0">
            <a:noFill/>
          </a:ln>
        </p:spPr>
      </p:sp>
      <p:sp>
        <p:nvSpPr>
          <p:cNvPr id="1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60554E56-C0A3-4AE9-B57C-C4A84976C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45B7F-52BE-4FC9-B7C5-6A02C28C8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858A-84CD-41D2-A327-6095CDEF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59309-DF69-423B-8166-0D88F8C8B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1368-A50B-4CA6-AC60-793C04561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B1CA2-9C75-4FBA-972D-8BE05D0D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0785-02A6-4F58-9F13-B7242B26C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FF94-DF76-4FBD-A1EF-9B248D9A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E176-8A1B-48E7-8F89-B6ACE58D3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F117-4A2E-482B-9101-6EBF40CB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5321-9B4F-4C5F-942E-EAA9A4745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7B2E-370A-4742-A6A0-65F7D915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7C29-742E-4289-B67D-C1687B165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A9857DE8-9902-4301-8584-5F3C7D481194}"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30x40-Landscape.eps"/>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4146480" y="248400"/>
            <a:ext cx="324295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Preschool-Age, Low-Income, Hispanic Children; Relations Between Parent-Child Interactions and Child Language Development in English and Spanish</a:t>
            </a:r>
            <a:endParaRPr b="0" lang="en-US" sz="6000" spc="-1" strike="noStrike">
              <a:solidFill>
                <a:srgbClr val="000000"/>
              </a:solidFill>
              <a:latin typeface="Calibri"/>
            </a:endParaRPr>
          </a:p>
        </p:txBody>
      </p:sp>
      <p:sp>
        <p:nvSpPr>
          <p:cNvPr id="88" name="TextBox 5"/>
          <p:cNvSpPr/>
          <p:nvPr/>
        </p:nvSpPr>
        <p:spPr>
          <a:xfrm>
            <a:off x="4146480" y="2055960"/>
            <a:ext cx="32429520" cy="97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5800" spc="-1" strike="noStrike">
                <a:solidFill>
                  <a:srgbClr val="ffffff"/>
                </a:solidFill>
                <a:latin typeface="URWGroteskWidMed"/>
              </a:rPr>
              <a:t>Reina Izabel Sebastian, Helen Raikes: University of Nebraska-Lincoln</a:t>
            </a:r>
            <a:endParaRPr b="0" lang="en-US" sz="5800" spc="-1" strike="noStrike">
              <a:solidFill>
                <a:srgbClr val="000000"/>
              </a:solidFill>
              <a:latin typeface="Calibri"/>
            </a:endParaRPr>
          </a:p>
        </p:txBody>
      </p:sp>
      <p:grpSp>
        <p:nvGrpSpPr>
          <p:cNvPr id="89" name="Group 3"/>
          <p:cNvGrpSpPr/>
          <p:nvPr/>
        </p:nvGrpSpPr>
        <p:grpSpPr>
          <a:xfrm>
            <a:off x="27322560" y="10423440"/>
            <a:ext cx="8369280" cy="8766360"/>
            <a:chOff x="27322560" y="10423440"/>
            <a:chExt cx="8369280" cy="8766360"/>
          </a:xfrm>
        </p:grpSpPr>
        <p:sp>
          <p:nvSpPr>
            <p:cNvPr id="90" name="Rounded Rectangle 4"/>
            <p:cNvSpPr/>
            <p:nvPr/>
          </p:nvSpPr>
          <p:spPr>
            <a:xfrm>
              <a:off x="27322560" y="10423440"/>
              <a:ext cx="8369280" cy="990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ferences</a:t>
              </a:r>
              <a:endParaRPr b="0" lang="en-US" sz="4400" spc="-1" strike="noStrike">
                <a:solidFill>
                  <a:srgbClr val="000000"/>
                </a:solidFill>
                <a:latin typeface="Calibri"/>
              </a:endParaRPr>
            </a:p>
          </p:txBody>
        </p:sp>
        <p:sp>
          <p:nvSpPr>
            <p:cNvPr id="91" name="TextBox 16"/>
            <p:cNvSpPr/>
            <p:nvPr/>
          </p:nvSpPr>
          <p:spPr>
            <a:xfrm>
              <a:off x="27322560" y="11382120"/>
              <a:ext cx="8369280" cy="7807680"/>
            </a:xfrm>
            <a:prstGeom prst="rect">
              <a:avLst/>
            </a:prstGeom>
            <a:noFill/>
            <a:ln w="0">
              <a:noFill/>
            </a:ln>
          </p:spPr>
          <p:style>
            <a:lnRef idx="0"/>
            <a:fillRef idx="0"/>
            <a:effectRef idx="0"/>
            <a:fontRef idx="minor"/>
          </p:style>
          <p:txBody>
            <a:bodyPr lIns="90000" rIns="90000" tIns="274320" bIns="46800" anchor="t">
              <a:spAutoFit/>
            </a:bodyPr>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Bradley, R. H., Corwyn, R., McAdoo, H. P., &amp; Coll, C. G. (2005). The home environments of children in the United States part I: Variations by age, ethnicity, and poverty status. </a:t>
              </a:r>
              <a:r>
                <a:rPr b="0" i="1" lang="en-US" sz="1900" spc="-1" strike="noStrike">
                  <a:solidFill>
                    <a:srgbClr val="000000"/>
                  </a:solidFill>
                  <a:latin typeface="URWGroteskBol"/>
                </a:rPr>
                <a:t>Child Development, </a:t>
              </a:r>
              <a:r>
                <a:rPr b="0" lang="en-US" sz="1900" spc="-1" strike="noStrike">
                  <a:solidFill>
                    <a:srgbClr val="000000"/>
                  </a:solidFill>
                  <a:latin typeface="URWGroteskBol"/>
                </a:rPr>
                <a:t>72, 1844–1867.</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Delgado, E. A., &amp; Stoll, L. C. (2015). Beyond the Black–White Test Score Gap: Latinos’ Early School Experiences and Literacy Outcomes. </a:t>
              </a:r>
              <a:r>
                <a:rPr b="0" i="1" lang="en-US" sz="1900" spc="-1" strike="noStrike">
                  <a:solidFill>
                    <a:srgbClr val="000000"/>
                  </a:solidFill>
                  <a:latin typeface="URWGroteskBol"/>
                </a:rPr>
                <a:t>Journal Of Latinos &amp; Education</a:t>
              </a:r>
              <a:r>
                <a:rPr b="0" lang="en-US" sz="1900" spc="-1" strike="noStrike">
                  <a:solidFill>
                    <a:srgbClr val="000000"/>
                  </a:solidFill>
                  <a:latin typeface="URWGroteskBol"/>
                </a:rPr>
                <a:t>, </a:t>
              </a:r>
              <a:r>
                <a:rPr b="0" i="1" lang="en-US" sz="1900" spc="-1" strike="noStrike">
                  <a:solidFill>
                    <a:srgbClr val="000000"/>
                  </a:solidFill>
                  <a:latin typeface="URWGroteskBol"/>
                </a:rPr>
                <a:t>14</a:t>
              </a:r>
              <a:r>
                <a:rPr b="0" lang="en-US" sz="1900" spc="-1" strike="noStrike">
                  <a:solidFill>
                    <a:srgbClr val="000000"/>
                  </a:solidFill>
                  <a:latin typeface="URWGroteskBol"/>
                </a:rPr>
                <a:t>(4), 261-274. doi:10.1080/15348431.2014.1000540</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Raikes, H., Luze, G., Brooks-Gunn, J., Raikes, H., Pan, B., Tamis-LeMonda, C. S., &amp; ... Rodriguez, E. T. (2006). Mother–child bookreading in low-income families: correlates and outcomes during the first three years of life. Child Development, 77(4), 924-953. doi:10.1111/j.1467-8624.2006.00911.</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Schhneider B, Martinez S, Ownes A. Barriers to Educational Opportunities for Hispanics in the United States. In: National Research Council (US) Panel on Hispanics in the United States; Tienda M, Mitchell F, editors. Hispanics and the Future of America. Washington (DC): National Academies Press (US); 2006. 6. Available from: http://www.ncbi.nlm.nih.gov/books/NBK19909/</a:t>
              </a:r>
              <a:endParaRPr b="0" lang="en-US" sz="19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2" name="Rounded Rectangle 6"/>
          <p:cNvSpPr/>
          <p:nvPr/>
        </p:nvSpPr>
        <p:spPr>
          <a:xfrm>
            <a:off x="9421920" y="4678200"/>
            <a:ext cx="172558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Methods</a:t>
            </a:r>
            <a:endParaRPr b="0" lang="en-US" sz="4400" spc="-1" strike="noStrike">
              <a:solidFill>
                <a:srgbClr val="000000"/>
              </a:solidFill>
              <a:latin typeface="Calibri"/>
            </a:endParaRPr>
          </a:p>
        </p:txBody>
      </p:sp>
      <p:sp>
        <p:nvSpPr>
          <p:cNvPr id="93" name="TextBox 14"/>
          <p:cNvSpPr/>
          <p:nvPr/>
        </p:nvSpPr>
        <p:spPr>
          <a:xfrm>
            <a:off x="9421920" y="5718240"/>
            <a:ext cx="8369280" cy="11409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The sample consisted of 30 Hispanic families with children who were of pre-school age that are participating in the Early Steps to School Success Program. Early Steps is a language development and pre literacy program that works with families from pregnancy up until the child enters Kindergarten. They provide services through home visiting, parent groups, and by supplying books. Each child had taken the Peabody Picture Vocabulary Test (PPVT) and the Pre-school Language Scale – 5 (PLS – 5). HOME Language and Literacy Scale test was used to determine the child’s literacy and language as well as how the parent provided language stimulation at home. A parent was videotaped for 10 minutes reading a short book to their child, in Spanish. Trained, reliable team members scored the interaction of the child and parent based on the following 4 elements: </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Parent Fluency: Parents smoothness/fluency during videotaped session of caregiver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Reading Intonation and/or Interaction Animation: Parents animation during videotaped session of parent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Comfort Level: Parents comfort during videotaped session of parent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Child Involvement: Child’s involvement while the parent reads to them. </a:t>
            </a:r>
            <a:endParaRPr b="0" lang="en-US" sz="2600" spc="-1" strike="noStrike">
              <a:solidFill>
                <a:srgbClr val="000000"/>
              </a:solidFill>
              <a:latin typeface="Calibri"/>
            </a:endParaRPr>
          </a:p>
        </p:txBody>
      </p:sp>
      <p:sp>
        <p:nvSpPr>
          <p:cNvPr id="94" name="Rounded Rectangle 8"/>
          <p:cNvSpPr/>
          <p:nvPr/>
        </p:nvSpPr>
        <p:spPr>
          <a:xfrm>
            <a:off x="9671040" y="17679960"/>
            <a:ext cx="17005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ults</a:t>
            </a:r>
            <a:endParaRPr b="0" lang="en-US" sz="4400" spc="-1" strike="noStrike">
              <a:solidFill>
                <a:srgbClr val="000000"/>
              </a:solidFill>
              <a:latin typeface="Calibri"/>
            </a:endParaRPr>
          </a:p>
        </p:txBody>
      </p:sp>
      <p:grpSp>
        <p:nvGrpSpPr>
          <p:cNvPr id="95" name="Group 11"/>
          <p:cNvGrpSpPr/>
          <p:nvPr/>
        </p:nvGrpSpPr>
        <p:grpSpPr>
          <a:xfrm>
            <a:off x="654120" y="17679960"/>
            <a:ext cx="8370720" cy="6183360"/>
            <a:chOff x="654120" y="17679960"/>
            <a:chExt cx="8370720" cy="6183360"/>
          </a:xfrm>
        </p:grpSpPr>
        <p:sp>
          <p:nvSpPr>
            <p:cNvPr id="96" name="Rounded Rectangle 12"/>
            <p:cNvSpPr/>
            <p:nvPr/>
          </p:nvSpPr>
          <p:spPr>
            <a:xfrm>
              <a:off x="654120" y="17679960"/>
              <a:ext cx="8367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earch Questions </a:t>
              </a:r>
              <a:endParaRPr b="0" lang="en-US" sz="4400" spc="-1" strike="noStrike">
                <a:solidFill>
                  <a:srgbClr val="000000"/>
                </a:solidFill>
                <a:latin typeface="Calibri"/>
              </a:endParaRPr>
            </a:p>
          </p:txBody>
        </p:sp>
        <p:sp>
          <p:nvSpPr>
            <p:cNvPr id="97" name="TextBox 13"/>
            <p:cNvSpPr/>
            <p:nvPr/>
          </p:nvSpPr>
          <p:spPr>
            <a:xfrm>
              <a:off x="657000" y="19581840"/>
              <a:ext cx="8367840" cy="4281480"/>
            </a:xfrm>
            <a:prstGeom prst="rect">
              <a:avLst/>
            </a:prstGeom>
            <a:noFill/>
            <a:ln w="0">
              <a:noFill/>
            </a:ln>
          </p:spPr>
          <p:style>
            <a:lnRef idx="0"/>
            <a:fillRef idx="0"/>
            <a:effectRef idx="0"/>
            <a:fontRef idx="minor"/>
          </p:style>
          <p:txBody>
            <a:bodyPr lIns="90000" rIns="90000" tIns="274320" bIns="46800" anchor="t">
              <a:spAutoFit/>
            </a:bodyPr>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What is the relation between parent HOME language and literacy stimulation and Spanish-speaking children’s language development in Spanish and English?</a:t>
              </a: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What is the relation between parental behaviors during bookreading with their children and Spanish-speaking children’s language development in Spanish and English?</a:t>
              </a:r>
              <a:endParaRPr b="0" lang="en-US" sz="2600" spc="-1" strike="noStrike">
                <a:solidFill>
                  <a:srgbClr val="000000"/>
                </a:solidFill>
                <a:latin typeface="Calibri"/>
              </a:endParaRPr>
            </a:p>
            <a:p>
              <a:pPr marL="457200" indent="-457200">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p:txBody>
        </p:sp>
      </p:grpSp>
      <p:sp>
        <p:nvSpPr>
          <p:cNvPr id="98" name="Rounded Rectangle 14"/>
          <p:cNvSpPr/>
          <p:nvPr/>
        </p:nvSpPr>
        <p:spPr>
          <a:xfrm>
            <a:off x="27327240" y="4675320"/>
            <a:ext cx="8367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Discussion</a:t>
            </a:r>
            <a:endParaRPr b="0" lang="en-US" sz="4400" spc="-1" strike="noStrike">
              <a:solidFill>
                <a:srgbClr val="000000"/>
              </a:solidFill>
              <a:latin typeface="Calibri"/>
            </a:endParaRPr>
          </a:p>
        </p:txBody>
      </p:sp>
      <p:sp>
        <p:nvSpPr>
          <p:cNvPr id="99" name="TextBox 15"/>
          <p:cNvSpPr/>
          <p:nvPr/>
        </p:nvSpPr>
        <p:spPr>
          <a:xfrm>
            <a:off x="27324000" y="6305400"/>
            <a:ext cx="8367840" cy="3489480"/>
          </a:xfrm>
          <a:prstGeom prst="rect">
            <a:avLst/>
          </a:prstGeom>
          <a:noFill/>
          <a:ln w="0">
            <a:noFill/>
          </a:ln>
        </p:spPr>
        <p:style>
          <a:lnRef idx="0"/>
          <a:fillRef idx="0"/>
          <a:effectRef idx="0"/>
          <a:fontRef idx="minor"/>
        </p:style>
        <p:txBody>
          <a:bodyPr lIns="90000" rIns="90000" tIns="274320" bIns="46800" anchor="t">
            <a:spAutoFit/>
          </a:bodyPr>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HOME Language Literacy, as in other studies, was an important contributor to the child’s Spanish language development.</a:t>
            </a:r>
            <a:endParaRPr b="0" lang="en-US" sz="2600" spc="-1" strike="noStrike">
              <a:solidFill>
                <a:srgbClr val="000000"/>
              </a:solidFill>
              <a:latin typeface="Calibri"/>
            </a:endParaRPr>
          </a:p>
          <a:p>
            <a:pPr marL="457200" indent="-457200">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Animation – expressive reading may have helped children engage in stories and learn the Spanish language as well as enjoy the activity more than the other children.</a:t>
            </a:r>
            <a:endParaRPr b="0" lang="en-US" sz="2600" spc="-1" strike="noStrike">
              <a:solidFill>
                <a:srgbClr val="000000"/>
              </a:solidFill>
              <a:latin typeface="Calibri"/>
            </a:endParaRPr>
          </a:p>
        </p:txBody>
      </p:sp>
      <p:sp>
        <p:nvSpPr>
          <p:cNvPr id="100" name="Rounded Rectangle 16"/>
          <p:cNvSpPr/>
          <p:nvPr/>
        </p:nvSpPr>
        <p:spPr>
          <a:xfrm>
            <a:off x="654120" y="467820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Background</a:t>
            </a:r>
            <a:endParaRPr b="0" lang="en-US" sz="4400" spc="-1" strike="noStrike">
              <a:solidFill>
                <a:srgbClr val="000000"/>
              </a:solidFill>
              <a:latin typeface="Calibri"/>
            </a:endParaRPr>
          </a:p>
        </p:txBody>
      </p:sp>
      <p:sp>
        <p:nvSpPr>
          <p:cNvPr id="101" name="TextBox 14"/>
          <p:cNvSpPr/>
          <p:nvPr/>
        </p:nvSpPr>
        <p:spPr>
          <a:xfrm>
            <a:off x="650880" y="5721480"/>
            <a:ext cx="8370720" cy="11805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Language development in children is one of many benchmarks in their early childhood. Parents are always encouraged to read to their children when they are young as it is the prime time to stimulate their language development. In a previous study, it was found that “the relations between book reading and language outcomes appear to be strong and direct during the first 2 years of life” (Raikes et al., 2006). Despite these findings, there are many families who are not reading to their children or participating in literacy activities with them. Hispanic families are less likely to participate in literacy activities compared to other groups. Furthermore, Hispanic families where both parents do not speak English, are less likely to read to their child, tell them a story, or visit a library (website). It has also been found that Hispanic families and African families are more likely to have no books in their household compared to other ethnic groups. There was only a small percentage of Hispanic families who had 10 or more books in their household (Bradley et al., 2005). It has been known that Hispanic children score lower in literacy test and a 2015 study looked at factors that could be affecting this gap. One of the findings of their study found that Hispanic children who have more access to a greater number of books obtain a higher literacy score than those Hispanic children who do not (Delgado &amp; Stoll, 2015).</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p:txBody>
      </p:sp>
      <p:sp>
        <p:nvSpPr>
          <p:cNvPr id="102" name="TextBox 14"/>
          <p:cNvSpPr/>
          <p:nvPr/>
        </p:nvSpPr>
        <p:spPr>
          <a:xfrm>
            <a:off x="18532440" y="20027880"/>
            <a:ext cx="8143920" cy="3885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1" lang="en-US" sz="2600" spc="-1" strike="noStrike" u="sng">
                <a:solidFill>
                  <a:srgbClr val="000000"/>
                </a:solidFill>
                <a:uFillTx/>
                <a:latin typeface="URWGroteskBol"/>
              </a:rPr>
              <a:t>Regression Analysis</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In all, HOME Language Stimulation did predict PLS scores, but not PPVT.</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Only one bookreading variable, animation, predicted PLS scores, but none predicted PPVT scores.</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Animation during bookreading had a trend effect.</a:t>
            </a:r>
            <a:endParaRPr b="0" lang="en-US" sz="2600" spc="-1" strike="noStrike">
              <a:solidFill>
                <a:srgbClr val="000000"/>
              </a:solidFill>
              <a:latin typeface="Calibri"/>
            </a:endParaRPr>
          </a:p>
        </p:txBody>
      </p:sp>
      <p:pic>
        <p:nvPicPr>
          <p:cNvPr id="103" name="Picture 25" descr="http://image1.masterfile.com/em_t/06/03/92/619-06039265er.jpg"/>
          <p:cNvPicPr/>
          <p:nvPr/>
        </p:nvPicPr>
        <p:blipFill>
          <a:blip r:embed="rId1"/>
          <a:stretch/>
        </p:blipFill>
        <p:spPr>
          <a:xfrm>
            <a:off x="18687960" y="6329520"/>
            <a:ext cx="7989840" cy="5313240"/>
          </a:xfrm>
          <a:prstGeom prst="rect">
            <a:avLst/>
          </a:prstGeom>
          <a:ln w="0">
            <a:noFill/>
          </a:ln>
        </p:spPr>
      </p:pic>
      <p:pic>
        <p:nvPicPr>
          <p:cNvPr id="104" name="Picture 27" descr="http://www.bibliotecanacional.gov.co/rnbp/sites/default/files/images/news/gorila_recomendado.jpg"/>
          <p:cNvPicPr/>
          <p:nvPr/>
        </p:nvPicPr>
        <p:blipFill>
          <a:blip r:embed="rId2"/>
          <a:stretch/>
        </p:blipFill>
        <p:spPr>
          <a:xfrm>
            <a:off x="19693080" y="12247560"/>
            <a:ext cx="5979960" cy="5183280"/>
          </a:xfrm>
          <a:prstGeom prst="rect">
            <a:avLst/>
          </a:prstGeom>
          <a:ln w="0">
            <a:noFill/>
          </a:ln>
        </p:spPr>
      </p:pic>
      <p:sp>
        <p:nvSpPr>
          <p:cNvPr id="105" name="Rounded Rectangle 24"/>
          <p:cNvSpPr/>
          <p:nvPr/>
        </p:nvSpPr>
        <p:spPr>
          <a:xfrm>
            <a:off x="27330480" y="1767996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What I learned from UCARE</a:t>
            </a:r>
            <a:endParaRPr b="0" lang="en-US" sz="4400" spc="-1" strike="noStrike">
              <a:solidFill>
                <a:srgbClr val="000000"/>
              </a:solidFill>
              <a:latin typeface="Calibri"/>
            </a:endParaRPr>
          </a:p>
        </p:txBody>
      </p:sp>
      <p:sp>
        <p:nvSpPr>
          <p:cNvPr id="106" name="TextBox 1"/>
          <p:cNvSpPr/>
          <p:nvPr/>
        </p:nvSpPr>
        <p:spPr>
          <a:xfrm>
            <a:off x="27333720" y="18791280"/>
            <a:ext cx="836604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Throughout my UCARE experience I was able to learn more about research and how much time and work goes into completing a project. I became familiar with literature review, data collection, data entry, analyzing data, and coming up with the results. </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I was also trained to become reliable in coding the videotapes and trained in conducting the Peabody Picture Vocabulary Test (PPVT) as well as certified to conduct the Pre-school Language Scale-5 (PLS-5) test.</a:t>
            </a:r>
            <a:endParaRPr b="0" lang="en-US" sz="2600" spc="-1" strike="noStrike">
              <a:solidFill>
                <a:srgbClr val="000000"/>
              </a:solidFill>
              <a:latin typeface="Calibri"/>
            </a:endParaRPr>
          </a:p>
        </p:txBody>
      </p:sp>
      <p:sp>
        <p:nvSpPr>
          <p:cNvPr id="107" name="Rounded Rectangle 26"/>
          <p:cNvSpPr/>
          <p:nvPr/>
        </p:nvSpPr>
        <p:spPr>
          <a:xfrm>
            <a:off x="27330480" y="2295036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cknowledgements</a:t>
            </a:r>
            <a:endParaRPr b="0" lang="en-US" sz="4400" spc="-1" strike="noStrike">
              <a:solidFill>
                <a:srgbClr val="000000"/>
              </a:solidFill>
              <a:latin typeface="Calibri"/>
            </a:endParaRPr>
          </a:p>
        </p:txBody>
      </p:sp>
      <p:sp>
        <p:nvSpPr>
          <p:cNvPr id="108" name="TextBox 2"/>
          <p:cNvSpPr/>
          <p:nvPr/>
        </p:nvSpPr>
        <p:spPr>
          <a:xfrm>
            <a:off x="27330480" y="24125400"/>
            <a:ext cx="83692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Dr. Helen Raikes, Elsa Escalante, Jan Esteraich</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Early Steps to School Success Program</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UCARE</a:t>
            </a:r>
            <a:endParaRPr b="0" lang="en-US" sz="2500" spc="-1" strike="noStrike">
              <a:solidFill>
                <a:srgbClr val="000000"/>
              </a:solidFill>
              <a:latin typeface="Calibri"/>
            </a:endParaRPr>
          </a:p>
        </p:txBody>
      </p:sp>
      <p:pic>
        <p:nvPicPr>
          <p:cNvPr id="109" name="Picture 3" descr=""/>
          <p:cNvPicPr/>
          <p:nvPr/>
        </p:nvPicPr>
        <p:blipFill>
          <a:blip r:embed="rId3"/>
          <a:stretch/>
        </p:blipFill>
        <p:spPr>
          <a:xfrm>
            <a:off x="9671040" y="19581840"/>
            <a:ext cx="8461440" cy="44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reina sebastian</cp:lastModifiedBy>
  <dcterms:modified xsi:type="dcterms:W3CDTF">2016-04-06T14:33:02Z</dcterms:modified>
  <cp:revision>35</cp:revision>
  <dc:subject/>
  <dc:title>PowerPoint Presentation</dc:title>
</cp:coreProperties>
</file>